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8A42-91B9-4F43-B2B8-797B25F5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D677-2E24-400B-B6E6-B6BD7DB7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E760-A0E8-4C43-B90E-86754986C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6C23-FB59-4C2B-A2FA-54B94900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23D9-6CF4-42AE-A5A6-3E8A4245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1E0-7CC6-4482-B437-1D3D08B3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5A76-E8D8-46EE-B31F-ABD0726C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998E-8409-4E90-B353-D7511287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ADD5-B797-49C6-B9AA-AA8E68C7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2A0F-234C-4AE2-BE85-FFA4EC6A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EFF8-35D6-42C8-988E-BE54C86E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4A98-027F-4D27-A635-0131F2CC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EC23-9332-4AEC-AA25-E045B3EA8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STABILIZATORY NAPIĘĆ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 DZIAŁANIU CIĄGŁYM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 - U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31480" y="2371680"/>
            <a:ext cx="2551320" cy="1421640"/>
            <a:chOff x="231480" y="2371680"/>
            <a:chExt cx="2551320" cy="1421640"/>
          </a:xfrm>
        </p:grpSpPr>
        <p:sp>
          <p:nvSpPr>
            <p:cNvPr id="389" name=""/>
            <p:cNvSpPr/>
            <p:nvPr/>
          </p:nvSpPr>
          <p:spPr>
            <a:xfrm>
              <a:off x="231480" y="3579840"/>
              <a:ext cx="2321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           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61960" y="3062160"/>
              <a:ext cx="23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39800" y="2598840"/>
              <a:ext cx="409680" cy="154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30040" y="2676600"/>
              <a:ext cx="168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544320" y="2676600"/>
              <a:ext cx="1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8480" y="2789280"/>
              <a:ext cx="290520" cy="2905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80920" y="2830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1212480" y="3075120"/>
              <a:ext cx="259200" cy="128520"/>
              <a:chOff x="1212480" y="3075120"/>
              <a:chExt cx="259200" cy="128520"/>
            </a:xfrm>
          </p:grpSpPr>
          <p:sp>
            <p:nvSpPr>
              <p:cNvPr id="397" name=""/>
              <p:cNvSpPr/>
              <p:nvPr/>
            </p:nvSpPr>
            <p:spPr>
              <a:xfrm>
                <a:off x="1239840" y="3201840"/>
                <a:ext cx="1857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320840" y="3089160"/>
                <a:ext cx="114120" cy="112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35160" y="307512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1212480" y="3089160"/>
                <a:ext cx="112680" cy="112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16240" y="3075120"/>
                <a:ext cx="55440" cy="507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317520" y="2630520"/>
              <a:ext cx="227160" cy="95400"/>
              <a:chOff x="317520" y="2630520"/>
              <a:chExt cx="227160" cy="95400"/>
            </a:xfrm>
          </p:grpSpPr>
          <p:sp>
            <p:nvSpPr>
              <p:cNvPr id="403" name=""/>
              <p:cNvSpPr/>
              <p:nvPr/>
            </p:nvSpPr>
            <p:spPr>
              <a:xfrm>
                <a:off x="317520" y="2676600"/>
                <a:ext cx="227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9280" y="26305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1276200" y="2676600"/>
              <a:ext cx="95400" cy="226800"/>
              <a:chOff x="1276200" y="2676600"/>
              <a:chExt cx="95400" cy="226800"/>
            </a:xfrm>
          </p:grpSpPr>
          <p:sp>
            <p:nvSpPr>
              <p:cNvPr id="406" name=""/>
              <p:cNvSpPr/>
              <p:nvPr/>
            </p:nvSpPr>
            <p:spPr>
              <a:xfrm>
                <a:off x="1325520" y="2676600"/>
                <a:ext cx="180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276200" y="2806560"/>
                <a:ext cx="95400" cy="9684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0"/>
                    </a:moveTo>
                    <a:lnTo>
                      <a:pt x="31" y="61"/>
                    </a:lnTo>
                    <a:lnTo>
                      <a:pt x="6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1312920" y="2630520"/>
              <a:ext cx="227160" cy="95400"/>
              <a:chOff x="1312920" y="2630520"/>
              <a:chExt cx="227160" cy="95400"/>
            </a:xfrm>
          </p:grpSpPr>
          <p:sp>
            <p:nvSpPr>
              <p:cNvPr id="409" name=""/>
              <p:cNvSpPr/>
              <p:nvPr/>
            </p:nvSpPr>
            <p:spPr>
              <a:xfrm>
                <a:off x="1312920" y="2676600"/>
                <a:ext cx="227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444680" y="26305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 flipV="1">
              <a:off x="1325520" y="2903040"/>
              <a:ext cx="18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1325520" y="3197160"/>
              <a:ext cx="180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0520" y="3543480"/>
              <a:ext cx="1407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89120" y="351648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1200" y="351648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41200" y="2648160"/>
              <a:ext cx="637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1540080" y="2676600"/>
              <a:ext cx="171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89120" y="2648160"/>
              <a:ext cx="6336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231840" y="2762280"/>
              <a:ext cx="95040" cy="681120"/>
              <a:chOff x="231840" y="2762280"/>
              <a:chExt cx="95040" cy="681120"/>
            </a:xfrm>
          </p:grpSpPr>
          <p:sp>
            <p:nvSpPr>
              <p:cNvPr id="420" name=""/>
              <p:cNvSpPr/>
              <p:nvPr/>
            </p:nvSpPr>
            <p:spPr>
              <a:xfrm flipV="1">
                <a:off x="276120" y="2762280"/>
                <a:ext cx="180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31840" y="27622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8" y="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1679760" y="2762280"/>
              <a:ext cx="95040" cy="681120"/>
              <a:chOff x="1679760" y="2762280"/>
              <a:chExt cx="95040" cy="681120"/>
            </a:xfrm>
          </p:grpSpPr>
          <p:sp>
            <p:nvSpPr>
              <p:cNvPr id="423" name=""/>
              <p:cNvSpPr/>
              <p:nvPr/>
            </p:nvSpPr>
            <p:spPr>
              <a:xfrm flipV="1">
                <a:off x="1725480" y="2762280"/>
                <a:ext cx="180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679760" y="27622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9" y="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2487600" y="2967120"/>
              <a:ext cx="295200" cy="293760"/>
              <a:chOff x="2487600" y="2967120"/>
              <a:chExt cx="295200" cy="293760"/>
            </a:xfrm>
          </p:grpSpPr>
          <p:sp>
            <p:nvSpPr>
              <p:cNvPr id="426" name=""/>
              <p:cNvSpPr/>
              <p:nvPr/>
            </p:nvSpPr>
            <p:spPr>
              <a:xfrm>
                <a:off x="2492280" y="2970360"/>
                <a:ext cx="285840" cy="2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487600" y="297036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487600" y="29894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87600" y="300672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487600" y="302580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487600" y="30434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487600" y="3062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487600" y="30798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487600" y="309888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487600" y="31161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487600" y="31338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487600" y="31528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487600" y="31701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487600" y="31892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487600" y="32068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487600" y="3225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87600" y="324324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49732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51460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53368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55132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70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8768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60676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624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64312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66076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678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69712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71476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73384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75112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77020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774880" y="323856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774880" y="32209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774880" y="320184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774880" y="318456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774880" y="3165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74880" y="314820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774880" y="31305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774880" y="3111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774880" y="309420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774880" y="30751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774880" y="3057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774880" y="3038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774880" y="30211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774880" y="300204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774880" y="2984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774880" y="29671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75580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73852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71944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70180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68308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66544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646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62908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61144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592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57508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55600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538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51928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50200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2538360" y="3002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55360" y="30942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206800" y="3274920"/>
              <a:ext cx="14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06800" y="3456000"/>
              <a:ext cx="1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2206800" y="2862360"/>
              <a:ext cx="353880" cy="426960"/>
              <a:chOff x="2206800" y="2862360"/>
              <a:chExt cx="353880" cy="426960"/>
            </a:xfrm>
          </p:grpSpPr>
          <p:sp>
            <p:nvSpPr>
              <p:cNvPr id="495" name=""/>
              <p:cNvSpPr/>
              <p:nvPr/>
            </p:nvSpPr>
            <p:spPr>
              <a:xfrm flipV="1">
                <a:off x="2206800" y="2862360"/>
                <a:ext cx="353880" cy="42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465280" y="286236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46" y="66"/>
                    </a:moveTo>
                    <a:lnTo>
                      <a:pt x="60" y="0"/>
                    </a:lnTo>
                    <a:lnTo>
                      <a:pt x="0" y="2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2355840" y="3429000"/>
              <a:ext cx="6336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20200" y="2752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484280" y="2843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26240" y="237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89960" y="246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402560" y="237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466280" y="246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3880" y="2994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9960" y="3084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006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51920" y="3098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731960" y="2676600"/>
              <a:ext cx="65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741680" y="3552840"/>
              <a:ext cx="65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379600" y="2676600"/>
              <a:ext cx="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301840" y="2911680"/>
              <a:ext cx="154080" cy="4093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3583080" y="1909800"/>
            <a:ext cx="5006880" cy="4012200"/>
            <a:chOff x="3583080" y="1909800"/>
            <a:chExt cx="5006880" cy="4012200"/>
          </a:xfrm>
        </p:grpSpPr>
        <p:sp>
          <p:nvSpPr>
            <p:cNvPr id="513" name=""/>
            <p:cNvSpPr/>
            <p:nvPr/>
          </p:nvSpPr>
          <p:spPr>
            <a:xfrm>
              <a:off x="5452920" y="4110120"/>
              <a:ext cx="2905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229440" y="2998800"/>
              <a:ext cx="14760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Nachylenie - 1/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26040" y="3089160"/>
              <a:ext cx="2174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148360" y="3121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6075360" y="2276640"/>
              <a:ext cx="300240" cy="9360"/>
              <a:chOff x="6075360" y="2276640"/>
              <a:chExt cx="300240" cy="9360"/>
            </a:xfrm>
          </p:grpSpPr>
          <p:sp>
            <p:nvSpPr>
              <p:cNvPr id="518" name=""/>
              <p:cNvSpPr/>
              <p:nvPr/>
            </p:nvSpPr>
            <p:spPr>
              <a:xfrm>
                <a:off x="607536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9300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1208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12936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14844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16572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18336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0244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21972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3880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25644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27552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29280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31188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32952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4680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36588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5435640" y="5113440"/>
              <a:ext cx="298440" cy="9360"/>
              <a:chOff x="5435640" y="5113440"/>
              <a:chExt cx="298440" cy="9360"/>
            </a:xfrm>
          </p:grpSpPr>
          <p:sp>
            <p:nvSpPr>
              <p:cNvPr id="536" name=""/>
              <p:cNvSpPr/>
              <p:nvPr/>
            </p:nvSpPr>
            <p:spPr>
              <a:xfrm>
                <a:off x="543564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5292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7056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89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50692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52600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543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56272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58000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597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61672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63400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65308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67072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68980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70708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72616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5367240" y="5332320"/>
              <a:ext cx="217440" cy="217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5366880" y="5396040"/>
              <a:ext cx="3223080" cy="104760"/>
              <a:chOff x="5366880" y="5396040"/>
              <a:chExt cx="3223080" cy="104760"/>
            </a:xfrm>
          </p:grpSpPr>
          <p:sp>
            <p:nvSpPr>
              <p:cNvPr id="555" name=""/>
              <p:cNvSpPr/>
              <p:nvPr/>
            </p:nvSpPr>
            <p:spPr>
              <a:xfrm flipH="1">
                <a:off x="5366880" y="5445000"/>
                <a:ext cx="31323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489880" y="5396040"/>
                <a:ext cx="100080" cy="104760"/>
              </a:xfrm>
              <a:custGeom>
                <a:avLst/>
                <a:gdLst/>
                <a:ahLst/>
                <a:rect l="l" t="t" r="r" b="b"/>
                <a:pathLst>
                  <a:path w="63" h="66">
                    <a:moveTo>
                      <a:pt x="0" y="66"/>
                    </a:moveTo>
                    <a:lnTo>
                      <a:pt x="63" y="31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3632400" y="2081160"/>
              <a:ext cx="95040" cy="3378240"/>
              <a:chOff x="3632400" y="2081160"/>
              <a:chExt cx="95040" cy="3378240"/>
            </a:xfrm>
          </p:grpSpPr>
          <p:sp>
            <p:nvSpPr>
              <p:cNvPr id="558" name=""/>
              <p:cNvSpPr/>
              <p:nvPr/>
            </p:nvSpPr>
            <p:spPr>
              <a:xfrm>
                <a:off x="3678120" y="2166840"/>
                <a:ext cx="5040" cy="329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632400" y="208116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9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3678120" y="5445000"/>
              <a:ext cx="17211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5380200" y="5400720"/>
              <a:ext cx="131760" cy="44280"/>
              <a:chOff x="5380200" y="5400720"/>
              <a:chExt cx="131760" cy="44280"/>
            </a:xfrm>
          </p:grpSpPr>
          <p:sp>
            <p:nvSpPr>
              <p:cNvPr id="562" name=""/>
              <p:cNvSpPr/>
              <p:nvPr/>
            </p:nvSpPr>
            <p:spPr>
              <a:xfrm>
                <a:off x="5380200" y="5400720"/>
                <a:ext cx="131760" cy="4428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28"/>
                    </a:moveTo>
                    <a:lnTo>
                      <a:pt x="32" y="25"/>
                    </a:lnTo>
                    <a:lnTo>
                      <a:pt x="60" y="20"/>
                    </a:lnTo>
                    <a:lnTo>
                      <a:pt x="77" y="11"/>
                    </a:lnTo>
                    <a:lnTo>
                      <a:pt x="80" y="5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380200" y="5400720"/>
                <a:ext cx="131760" cy="4428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28"/>
                    </a:moveTo>
                    <a:lnTo>
                      <a:pt x="32" y="25"/>
                    </a:lnTo>
                    <a:lnTo>
                      <a:pt x="60" y="20"/>
                    </a:lnTo>
                    <a:lnTo>
                      <a:pt x="77" y="11"/>
                    </a:lnTo>
                    <a:lnTo>
                      <a:pt x="80" y="5"/>
                    </a:lnTo>
                    <a:lnTo>
                      <a:pt x="8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 flipV="1">
              <a:off x="5511960" y="2139480"/>
              <a:ext cx="722160" cy="3264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70760" y="225432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48320" y="5091120"/>
              <a:ext cx="5868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59400" y="2835360"/>
              <a:ext cx="2809800" cy="26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013360" y="2820960"/>
              <a:ext cx="2836800" cy="26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789520" y="3983040"/>
              <a:ext cx="637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75200" y="3616200"/>
              <a:ext cx="5904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69200" y="4890960"/>
              <a:ext cx="144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50160" y="4890960"/>
              <a:ext cx="180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807160" y="2747880"/>
              <a:ext cx="1440" cy="12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5892840" y="2747880"/>
              <a:ext cx="144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34240" y="3643200"/>
              <a:ext cx="853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65840" y="4010040"/>
              <a:ext cx="157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7369200" y="4896000"/>
              <a:ext cx="480960" cy="104760"/>
              <a:chOff x="7369200" y="4896000"/>
              <a:chExt cx="480960" cy="104760"/>
            </a:xfrm>
          </p:grpSpPr>
          <p:sp>
            <p:nvSpPr>
              <p:cNvPr id="578" name=""/>
              <p:cNvSpPr/>
              <p:nvPr/>
            </p:nvSpPr>
            <p:spPr>
              <a:xfrm>
                <a:off x="7454880" y="4946760"/>
                <a:ext cx="3096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369200" y="48960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0"/>
                    </a:moveTo>
                    <a:lnTo>
                      <a:pt x="0" y="32"/>
                    </a:lnTo>
                    <a:lnTo>
                      <a:pt x="60" y="6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755120" y="490536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8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651720" y="3643200"/>
              <a:ext cx="100080" cy="366840"/>
              <a:chOff x="6651720" y="3643200"/>
              <a:chExt cx="100080" cy="366840"/>
            </a:xfrm>
          </p:grpSpPr>
          <p:sp>
            <p:nvSpPr>
              <p:cNvPr id="582" name=""/>
              <p:cNvSpPr/>
              <p:nvPr/>
            </p:nvSpPr>
            <p:spPr>
              <a:xfrm>
                <a:off x="6701040" y="3729240"/>
                <a:ext cx="1440" cy="19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656400" y="364320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8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651720" y="391464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0"/>
                    </a:moveTo>
                    <a:lnTo>
                      <a:pt x="31" y="60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5807160" y="2862360"/>
              <a:ext cx="8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5892840" y="2811600"/>
              <a:ext cx="441360" cy="95040"/>
              <a:chOff x="5892840" y="2811600"/>
              <a:chExt cx="441360" cy="95040"/>
            </a:xfrm>
          </p:grpSpPr>
          <p:sp>
            <p:nvSpPr>
              <p:cNvPr id="587" name=""/>
              <p:cNvSpPr/>
              <p:nvPr/>
            </p:nvSpPr>
            <p:spPr>
              <a:xfrm>
                <a:off x="5980320" y="2862360"/>
                <a:ext cx="353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892840" y="28116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0"/>
                    </a:moveTo>
                    <a:lnTo>
                      <a:pt x="0" y="32"/>
                    </a:lnTo>
                    <a:lnTo>
                      <a:pt x="60" y="6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5252760" y="2816280"/>
              <a:ext cx="554400" cy="95400"/>
              <a:chOff x="5252760" y="2816280"/>
              <a:chExt cx="554400" cy="95400"/>
            </a:xfrm>
          </p:grpSpPr>
          <p:sp>
            <p:nvSpPr>
              <p:cNvPr id="590" name=""/>
              <p:cNvSpPr/>
              <p:nvPr/>
            </p:nvSpPr>
            <p:spPr>
              <a:xfrm flipH="1">
                <a:off x="5252760" y="2862360"/>
                <a:ext cx="468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711760" y="281628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5306760" y="253044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426280" y="2548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62000" y="2639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10120" y="369252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27120" y="3711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993000" y="3801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437240" y="463248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554960" y="4651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690680" y="474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92760" y="4950000"/>
              <a:ext cx="4590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815800" y="498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878800" y="507384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m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402240" y="2112840"/>
              <a:ext cx="46224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28880" y="21448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492240" y="223524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481880" y="3855960"/>
              <a:ext cx="29052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04920" y="3887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69360" y="3978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83080" y="5518080"/>
              <a:ext cx="203040" cy="27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04680" y="5549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38800" y="5586480"/>
              <a:ext cx="3049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62560" y="5618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498640" y="5708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228080" y="5486400"/>
              <a:ext cx="304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51840" y="5518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85760" y="5608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263080" y="5500800"/>
              <a:ext cx="304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286840" y="5535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49840" y="3670200"/>
              <a:ext cx="1171440" cy="117180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4408560" y="4329000"/>
              <a:ext cx="114120" cy="131760"/>
              <a:chOff x="4408560" y="4329000"/>
              <a:chExt cx="114120" cy="131760"/>
            </a:xfrm>
          </p:grpSpPr>
          <p:sp>
            <p:nvSpPr>
              <p:cNvPr id="622" name=""/>
              <p:cNvSpPr/>
              <p:nvPr/>
            </p:nvSpPr>
            <p:spPr>
              <a:xfrm>
                <a:off x="4408560" y="4329000"/>
                <a:ext cx="114120" cy="131760"/>
              </a:xfrm>
              <a:custGeom>
                <a:avLst/>
                <a:gdLst/>
                <a:ahLst/>
                <a:rect l="l" t="t" r="r" b="b"/>
                <a:pathLst>
                  <a:path w="72" h="83">
                    <a:moveTo>
                      <a:pt x="0" y="0"/>
                    </a:moveTo>
                    <a:lnTo>
                      <a:pt x="14" y="2"/>
                    </a:lnTo>
                    <a:lnTo>
                      <a:pt x="26" y="5"/>
                    </a:lnTo>
                    <a:lnTo>
                      <a:pt x="49" y="25"/>
                    </a:lnTo>
                    <a:lnTo>
                      <a:pt x="66" y="51"/>
                    </a:lnTo>
                    <a:lnTo>
                      <a:pt x="69" y="65"/>
                    </a:lnTo>
                    <a:lnTo>
                      <a:pt x="72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408560" y="4329000"/>
                <a:ext cx="114120" cy="131760"/>
              </a:xfrm>
              <a:custGeom>
                <a:avLst/>
                <a:gdLst/>
                <a:ahLst/>
                <a:rect l="l" t="t" r="r" b="b"/>
                <a:pathLst>
                  <a:path w="72" h="83">
                    <a:moveTo>
                      <a:pt x="0" y="0"/>
                    </a:moveTo>
                    <a:lnTo>
                      <a:pt x="14" y="2"/>
                    </a:lnTo>
                    <a:lnTo>
                      <a:pt x="26" y="5"/>
                    </a:lnTo>
                    <a:lnTo>
                      <a:pt x="49" y="25"/>
                    </a:lnTo>
                    <a:lnTo>
                      <a:pt x="66" y="51"/>
                    </a:lnTo>
                    <a:lnTo>
                      <a:pt x="69" y="65"/>
                    </a:lnTo>
                    <a:lnTo>
                      <a:pt x="72" y="8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4264200" y="4246560"/>
              <a:ext cx="153720" cy="82440"/>
              <a:chOff x="4264200" y="4246560"/>
              <a:chExt cx="153720" cy="82440"/>
            </a:xfrm>
          </p:grpSpPr>
          <p:sp>
            <p:nvSpPr>
              <p:cNvPr id="625" name=""/>
              <p:cNvSpPr/>
              <p:nvPr/>
            </p:nvSpPr>
            <p:spPr>
              <a:xfrm>
                <a:off x="4264200" y="4246560"/>
                <a:ext cx="153720" cy="82440"/>
              </a:xfrm>
              <a:custGeom>
                <a:avLst/>
                <a:gdLst/>
                <a:ahLst/>
                <a:rect l="l" t="t" r="r" b="b"/>
                <a:pathLst>
                  <a:path w="97" h="52">
                    <a:moveTo>
                      <a:pt x="97" y="52"/>
                    </a:moveTo>
                    <a:lnTo>
                      <a:pt x="60" y="49"/>
                    </a:lnTo>
                    <a:lnTo>
                      <a:pt x="28" y="37"/>
                    </a:lnTo>
                    <a:lnTo>
                      <a:pt x="17" y="29"/>
                    </a:lnTo>
                    <a:lnTo>
                      <a:pt x="8" y="20"/>
                    </a:lnTo>
                    <a:lnTo>
                      <a:pt x="2" y="12"/>
                    </a:lnTo>
                    <a:lnTo>
                      <a:pt x="0" y="0"/>
                    </a:lnTo>
                    <a:lnTo>
                      <a:pt x="97" y="0"/>
                    </a:lnTo>
                    <a:lnTo>
                      <a:pt x="97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264200" y="4246560"/>
                <a:ext cx="153720" cy="82440"/>
              </a:xfrm>
              <a:custGeom>
                <a:avLst/>
                <a:gdLst/>
                <a:ahLst/>
                <a:rect l="l" t="t" r="r" b="b"/>
                <a:pathLst>
                  <a:path w="97" h="52">
                    <a:moveTo>
                      <a:pt x="97" y="52"/>
                    </a:moveTo>
                    <a:lnTo>
                      <a:pt x="60" y="49"/>
                    </a:lnTo>
                    <a:lnTo>
                      <a:pt x="28" y="37"/>
                    </a:lnTo>
                    <a:lnTo>
                      <a:pt x="17" y="29"/>
                    </a:lnTo>
                    <a:lnTo>
                      <a:pt x="8" y="20"/>
                    </a:lnTo>
                    <a:lnTo>
                      <a:pt x="2" y="12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4264200" y="4133880"/>
              <a:ext cx="102960" cy="100080"/>
              <a:chOff x="4264200" y="4133880"/>
              <a:chExt cx="102960" cy="100080"/>
            </a:xfrm>
          </p:grpSpPr>
          <p:sp>
            <p:nvSpPr>
              <p:cNvPr id="628" name=""/>
              <p:cNvSpPr/>
              <p:nvPr/>
            </p:nvSpPr>
            <p:spPr>
              <a:xfrm>
                <a:off x="4264200" y="4133880"/>
                <a:ext cx="102960" cy="100080"/>
              </a:xfrm>
              <a:custGeom>
                <a:avLst/>
                <a:gdLst/>
                <a:ahLst/>
                <a:rect l="l" t="t" r="r" b="b"/>
                <a:pathLst>
                  <a:path w="65" h="63">
                    <a:moveTo>
                      <a:pt x="65" y="0"/>
                    </a:moveTo>
                    <a:lnTo>
                      <a:pt x="40" y="5"/>
                    </a:lnTo>
                    <a:lnTo>
                      <a:pt x="20" y="20"/>
                    </a:lnTo>
                    <a:lnTo>
                      <a:pt x="5" y="40"/>
                    </a:lnTo>
                    <a:lnTo>
                      <a:pt x="0" y="63"/>
                    </a:lnTo>
                    <a:lnTo>
                      <a:pt x="65" y="63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264200" y="4133880"/>
                <a:ext cx="102960" cy="100080"/>
              </a:xfrm>
              <a:custGeom>
                <a:avLst/>
                <a:gdLst/>
                <a:ahLst/>
                <a:rect l="l" t="t" r="r" b="b"/>
                <a:pathLst>
                  <a:path w="65" h="63">
                    <a:moveTo>
                      <a:pt x="65" y="0"/>
                    </a:moveTo>
                    <a:lnTo>
                      <a:pt x="40" y="5"/>
                    </a:lnTo>
                    <a:lnTo>
                      <a:pt x="20" y="20"/>
                    </a:lnTo>
                    <a:lnTo>
                      <a:pt x="5" y="40"/>
                    </a:lnTo>
                    <a:lnTo>
                      <a:pt x="0" y="6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4518000" y="3679920"/>
              <a:ext cx="4680" cy="925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4363920" y="3987720"/>
              <a:ext cx="103320" cy="136800"/>
              <a:chOff x="4363920" y="3987720"/>
              <a:chExt cx="103320" cy="136800"/>
            </a:xfrm>
          </p:grpSpPr>
          <p:sp>
            <p:nvSpPr>
              <p:cNvPr id="632" name=""/>
              <p:cNvSpPr/>
              <p:nvPr/>
            </p:nvSpPr>
            <p:spPr>
              <a:xfrm>
                <a:off x="4363920" y="3987720"/>
                <a:ext cx="103320" cy="136800"/>
              </a:xfrm>
              <a:custGeom>
                <a:avLst/>
                <a:gdLst/>
                <a:ahLst/>
                <a:rect l="l" t="t" r="r" b="b"/>
                <a:pathLst>
                  <a:path w="65" h="86">
                    <a:moveTo>
                      <a:pt x="0" y="86"/>
                    </a:moveTo>
                    <a:lnTo>
                      <a:pt x="14" y="83"/>
                    </a:lnTo>
                    <a:lnTo>
                      <a:pt x="25" y="80"/>
                    </a:lnTo>
                    <a:lnTo>
                      <a:pt x="37" y="72"/>
                    </a:lnTo>
                    <a:lnTo>
                      <a:pt x="45" y="60"/>
                    </a:lnTo>
                    <a:lnTo>
                      <a:pt x="60" y="32"/>
                    </a:lnTo>
                    <a:lnTo>
                      <a:pt x="65" y="0"/>
                    </a:lnTo>
                    <a:lnTo>
                      <a:pt x="0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363920" y="3987720"/>
                <a:ext cx="103320" cy="136800"/>
              </a:xfrm>
              <a:custGeom>
                <a:avLst/>
                <a:gdLst/>
                <a:ahLst/>
                <a:rect l="l" t="t" r="r" b="b"/>
                <a:pathLst>
                  <a:path w="65" h="86">
                    <a:moveTo>
                      <a:pt x="0" y="86"/>
                    </a:moveTo>
                    <a:lnTo>
                      <a:pt x="14" y="83"/>
                    </a:lnTo>
                    <a:lnTo>
                      <a:pt x="25" y="80"/>
                    </a:lnTo>
                    <a:lnTo>
                      <a:pt x="37" y="72"/>
                    </a:lnTo>
                    <a:lnTo>
                      <a:pt x="45" y="60"/>
                    </a:lnTo>
                    <a:lnTo>
                      <a:pt x="60" y="32"/>
                    </a:lnTo>
                    <a:lnTo>
                      <a:pt x="65" y="0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3873600" y="4419720"/>
              <a:ext cx="1108080" cy="1440"/>
            </a:xfrm>
            <a:prstGeom prst="line">
              <a:avLst/>
            </a:prstGeom>
            <a:ln w="176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4467240" y="3824280"/>
              <a:ext cx="23760" cy="163440"/>
              <a:chOff x="4467240" y="3824280"/>
              <a:chExt cx="23760" cy="163440"/>
            </a:xfrm>
          </p:grpSpPr>
          <p:sp>
            <p:nvSpPr>
              <p:cNvPr id="636" name=""/>
              <p:cNvSpPr/>
              <p:nvPr/>
            </p:nvSpPr>
            <p:spPr>
              <a:xfrm>
                <a:off x="4467240" y="382428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0" y="103"/>
                    </a:moveTo>
                    <a:lnTo>
                      <a:pt x="3" y="100"/>
                    </a:lnTo>
                    <a:lnTo>
                      <a:pt x="6" y="95"/>
                    </a:lnTo>
                    <a:lnTo>
                      <a:pt x="9" y="86"/>
                    </a:lnTo>
                    <a:lnTo>
                      <a:pt x="12" y="75"/>
                    </a:lnTo>
                    <a:lnTo>
                      <a:pt x="15" y="40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467240" y="382428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0" y="103"/>
                    </a:moveTo>
                    <a:lnTo>
                      <a:pt x="3" y="100"/>
                    </a:lnTo>
                    <a:lnTo>
                      <a:pt x="6" y="95"/>
                    </a:lnTo>
                    <a:lnTo>
                      <a:pt x="9" y="86"/>
                    </a:lnTo>
                    <a:lnTo>
                      <a:pt x="12" y="75"/>
                    </a:lnTo>
                    <a:lnTo>
                      <a:pt x="15" y="40"/>
                    </a:lnTo>
                    <a:lnTo>
                      <a:pt x="15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4491000" y="3679920"/>
              <a:ext cx="17640" cy="144360"/>
              <a:chOff x="4491000" y="3679920"/>
              <a:chExt cx="17640" cy="144360"/>
            </a:xfrm>
          </p:grpSpPr>
          <p:sp>
            <p:nvSpPr>
              <p:cNvPr id="639" name=""/>
              <p:cNvSpPr/>
              <p:nvPr/>
            </p:nvSpPr>
            <p:spPr>
              <a:xfrm>
                <a:off x="4491000" y="3679920"/>
                <a:ext cx="17640" cy="144360"/>
              </a:xfrm>
              <a:custGeom>
                <a:avLst/>
                <a:gdLst/>
                <a:ahLst/>
                <a:rect l="l" t="t" r="r" b="b"/>
                <a:pathLst>
                  <a:path w="11" h="91">
                    <a:moveTo>
                      <a:pt x="0" y="91"/>
                    </a:moveTo>
                    <a:lnTo>
                      <a:pt x="2" y="88"/>
                    </a:lnTo>
                    <a:lnTo>
                      <a:pt x="5" y="85"/>
                    </a:lnTo>
                    <a:lnTo>
                      <a:pt x="5" y="77"/>
                    </a:lnTo>
                    <a:lnTo>
                      <a:pt x="8" y="65"/>
                    </a:lnTo>
                    <a:lnTo>
                      <a:pt x="11" y="37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491000" y="3679920"/>
                <a:ext cx="17640" cy="144360"/>
              </a:xfrm>
              <a:custGeom>
                <a:avLst/>
                <a:gdLst/>
                <a:ahLst/>
                <a:rect l="l" t="t" r="r" b="b"/>
                <a:pathLst>
                  <a:path w="11" h="91">
                    <a:moveTo>
                      <a:pt x="0" y="91"/>
                    </a:moveTo>
                    <a:lnTo>
                      <a:pt x="2" y="88"/>
                    </a:lnTo>
                    <a:lnTo>
                      <a:pt x="5" y="85"/>
                    </a:lnTo>
                    <a:lnTo>
                      <a:pt x="5" y="77"/>
                    </a:lnTo>
                    <a:lnTo>
                      <a:pt x="8" y="65"/>
                    </a:lnTo>
                    <a:lnTo>
                      <a:pt x="11" y="37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4476600" y="4346640"/>
              <a:ext cx="46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272120" y="4265640"/>
              <a:ext cx="2458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322880" y="4305240"/>
              <a:ext cx="19512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72120" y="4224240"/>
              <a:ext cx="24588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476600" y="4019760"/>
              <a:ext cx="46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467240" y="4060800"/>
              <a:ext cx="5544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427640" y="4102200"/>
              <a:ext cx="9036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322880" y="4141800"/>
              <a:ext cx="19512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295880" y="4183200"/>
              <a:ext cx="22680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498920" y="3875040"/>
              <a:ext cx="1908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498920" y="3938760"/>
              <a:ext cx="19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491000" y="3978360"/>
              <a:ext cx="27000" cy="936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4830840" y="4737240"/>
              <a:ext cx="581040" cy="595080"/>
              <a:chOff x="4830840" y="4737240"/>
              <a:chExt cx="581040" cy="595080"/>
            </a:xfrm>
          </p:grpSpPr>
          <p:sp>
            <p:nvSpPr>
              <p:cNvPr id="654" name=""/>
              <p:cNvSpPr/>
              <p:nvPr/>
            </p:nvSpPr>
            <p:spPr>
              <a:xfrm>
                <a:off x="4830840" y="4737240"/>
                <a:ext cx="581040" cy="59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830840" y="4737240"/>
                <a:ext cx="104760" cy="100080"/>
              </a:xfrm>
              <a:custGeom>
                <a:avLst/>
                <a:gdLst/>
                <a:ahLst/>
                <a:rect l="l" t="t" r="r" b="b"/>
                <a:pathLst>
                  <a:path w="66" h="63">
                    <a:moveTo>
                      <a:pt x="66" y="20"/>
                    </a:moveTo>
                    <a:lnTo>
                      <a:pt x="0" y="0"/>
                    </a:lnTo>
                    <a:lnTo>
                      <a:pt x="23" y="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 flipH="1">
              <a:off x="6005520" y="3232080"/>
              <a:ext cx="43200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866040" y="190980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"/>
          <p:cNvGrpSpPr/>
          <p:nvPr/>
        </p:nvGrpSpPr>
        <p:grpSpPr>
          <a:xfrm>
            <a:off x="874800" y="411120"/>
            <a:ext cx="7084080" cy="5927760"/>
            <a:chOff x="874800" y="411120"/>
            <a:chExt cx="7084080" cy="5927760"/>
          </a:xfrm>
        </p:grpSpPr>
        <p:grpSp>
          <p:nvGrpSpPr>
            <p:cNvPr id="659" name=""/>
            <p:cNvGrpSpPr/>
            <p:nvPr/>
          </p:nvGrpSpPr>
          <p:grpSpPr>
            <a:xfrm>
              <a:off x="1233000" y="581760"/>
              <a:ext cx="93600" cy="2211480"/>
              <a:chOff x="1233000" y="581760"/>
              <a:chExt cx="93600" cy="2211480"/>
            </a:xfrm>
          </p:grpSpPr>
          <p:sp>
            <p:nvSpPr>
              <p:cNvPr id="660" name=""/>
              <p:cNvSpPr/>
              <p:nvPr/>
            </p:nvSpPr>
            <p:spPr>
              <a:xfrm>
                <a:off x="1276920" y="661320"/>
                <a:ext cx="1440" cy="2131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233000" y="581760"/>
                <a:ext cx="93600" cy="87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5" y="0"/>
                    </a:lnTo>
                    <a:lnTo>
                      <a:pt x="0" y="5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1259280" y="2750760"/>
              <a:ext cx="4731840" cy="87480"/>
              <a:chOff x="1259280" y="2750760"/>
              <a:chExt cx="4731840" cy="87480"/>
            </a:xfrm>
          </p:grpSpPr>
          <p:sp>
            <p:nvSpPr>
              <p:cNvPr id="663" name=""/>
              <p:cNvSpPr/>
              <p:nvPr/>
            </p:nvSpPr>
            <p:spPr>
              <a:xfrm flipH="1">
                <a:off x="1259280" y="2793600"/>
                <a:ext cx="4646880" cy="7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897160" y="2750760"/>
                <a:ext cx="93960" cy="874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26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1276920" y="1876320"/>
              <a:ext cx="2044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321000" y="1876320"/>
              <a:ext cx="1801440" cy="917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1224000" y="825840"/>
              <a:ext cx="437400" cy="7920"/>
              <a:chOff x="1224000" y="825840"/>
              <a:chExt cx="437400" cy="7920"/>
            </a:xfrm>
          </p:grpSpPr>
          <p:sp>
            <p:nvSpPr>
              <p:cNvPr id="668" name=""/>
              <p:cNvSpPr/>
              <p:nvPr/>
            </p:nvSpPr>
            <p:spPr>
              <a:xfrm>
                <a:off x="165276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63512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174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5994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5818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5638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54440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52676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50912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4914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4738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4558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43820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42020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40256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38492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3672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3474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298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1220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29456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27692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2592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2416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22400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1233000" y="3734640"/>
              <a:ext cx="93600" cy="2211840"/>
              <a:chOff x="1233000" y="3734640"/>
              <a:chExt cx="93600" cy="2211840"/>
            </a:xfrm>
          </p:grpSpPr>
          <p:sp>
            <p:nvSpPr>
              <p:cNvPr id="694" name=""/>
              <p:cNvSpPr/>
              <p:nvPr/>
            </p:nvSpPr>
            <p:spPr>
              <a:xfrm>
                <a:off x="1276920" y="3814200"/>
                <a:ext cx="1440" cy="2132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233000" y="3734640"/>
                <a:ext cx="93600" cy="87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5" y="0"/>
                    </a:lnTo>
                    <a:lnTo>
                      <a:pt x="0" y="5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5092200" y="5909040"/>
              <a:ext cx="889560" cy="87480"/>
              <a:chOff x="5092200" y="5909040"/>
              <a:chExt cx="889560" cy="87480"/>
            </a:xfrm>
          </p:grpSpPr>
          <p:sp>
            <p:nvSpPr>
              <p:cNvPr id="697" name=""/>
              <p:cNvSpPr/>
              <p:nvPr/>
            </p:nvSpPr>
            <p:spPr>
              <a:xfrm flipH="1" flipV="1">
                <a:off x="5092200" y="5947200"/>
                <a:ext cx="80460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88160" y="5909040"/>
                <a:ext cx="93600" cy="874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25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1276920" y="4050000"/>
              <a:ext cx="1999800" cy="1875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3012840" y="5774400"/>
              <a:ext cx="563040" cy="7920"/>
              <a:chOff x="3012840" y="5774400"/>
              <a:chExt cx="563040" cy="7920"/>
            </a:xfrm>
          </p:grpSpPr>
          <p:sp>
            <p:nvSpPr>
              <p:cNvPr id="701" name=""/>
              <p:cNvSpPr/>
              <p:nvPr/>
            </p:nvSpPr>
            <p:spPr>
              <a:xfrm>
                <a:off x="35672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5496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53016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51252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49488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4772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4592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4412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4236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40596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38832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37068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3530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3332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3156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29796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28032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26268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2450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2274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2094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19176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173760" y="577440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15612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136680" y="5774400"/>
                <a:ext cx="104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1190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1014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08376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065760" y="577440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04812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03048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0128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1236600" y="4058280"/>
              <a:ext cx="438840" cy="7920"/>
              <a:chOff x="1236600" y="4058280"/>
              <a:chExt cx="438840" cy="7920"/>
            </a:xfrm>
          </p:grpSpPr>
          <p:sp>
            <p:nvSpPr>
              <p:cNvPr id="734" name=""/>
              <p:cNvSpPr/>
              <p:nvPr/>
            </p:nvSpPr>
            <p:spPr>
              <a:xfrm>
                <a:off x="16668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64736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62972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611720" y="405828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59408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57644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5588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5408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316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50552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48788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47024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450440" y="405828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4328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41516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39752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37988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36224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3446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32696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3086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29096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27332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254240" y="4058280"/>
                <a:ext cx="104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2366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>
              <a:off x="3092760" y="5749560"/>
              <a:ext cx="63360" cy="54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97400" y="674640"/>
              <a:ext cx="31392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750320" y="707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884960" y="792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88840" y="411120"/>
              <a:ext cx="31176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941040" y="448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076400" y="532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341080" y="1068120"/>
              <a:ext cx="242640" cy="263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41880" y="1029960"/>
              <a:ext cx="1299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chylenie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862240" y="2898720"/>
              <a:ext cx="28512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941800" y="29318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003360" y="3015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165320" y="2846880"/>
              <a:ext cx="272880" cy="277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253880" y="2880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335960" y="1549440"/>
              <a:ext cx="1027800" cy="260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361520" y="158400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544400" y="166716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608120" y="1584000"/>
              <a:ext cx="34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893960" y="1667160"/>
              <a:ext cx="20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74800" y="3618720"/>
              <a:ext cx="31392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951120" y="3650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012680" y="3734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862240" y="6038280"/>
              <a:ext cx="28512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941800" y="6069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03360" y="6156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842720" y="6013440"/>
              <a:ext cx="52308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936680" y="6046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8600" y="613116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053880" y="6000480"/>
              <a:ext cx="52236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147480" y="6035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209760" y="61182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18280" y="5942160"/>
              <a:ext cx="1583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24840" y="5552280"/>
              <a:ext cx="52452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714120" y="5590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776040" y="567468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D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151280" y="6000480"/>
              <a:ext cx="27288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241280" y="6035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738080" y="3814560"/>
              <a:ext cx="1480320" cy="527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1807200" y="3837960"/>
              <a:ext cx="1359000" cy="461520"/>
              <a:chOff x="1807200" y="3837960"/>
              <a:chExt cx="1359000" cy="461520"/>
            </a:xfrm>
          </p:grpSpPr>
          <p:sp>
            <p:nvSpPr>
              <p:cNvPr id="798" name=""/>
              <p:cNvSpPr/>
              <p:nvPr/>
            </p:nvSpPr>
            <p:spPr>
              <a:xfrm>
                <a:off x="1807560" y="4089960"/>
                <a:ext cx="6786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807200" y="38592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198520" y="38592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093400" y="41166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701440" y="3981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362320" y="394740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793600" y="4069800"/>
                <a:ext cx="372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Times New Roman"/>
                  </a:rPr>
                  <a:t>Dma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957320" y="3947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987640" y="398196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074680" y="3837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39800" y="3960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918520" y="398196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78360" y="398196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1276920" y="5947200"/>
              <a:ext cx="2253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750480" y="4627800"/>
              <a:ext cx="91620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897000" y="4702320"/>
              <a:ext cx="4701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 =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3436560" y="4514760"/>
              <a:ext cx="1564920" cy="140760"/>
              <a:chOff x="3436560" y="4514760"/>
              <a:chExt cx="1564920" cy="140760"/>
            </a:xfrm>
          </p:grpSpPr>
          <p:sp>
            <p:nvSpPr>
              <p:cNvPr id="815" name=""/>
              <p:cNvSpPr/>
              <p:nvPr/>
            </p:nvSpPr>
            <p:spPr>
              <a:xfrm>
                <a:off x="3571200" y="4586040"/>
                <a:ext cx="129744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436560" y="4514760"/>
                <a:ext cx="143280" cy="137520"/>
              </a:xfrm>
              <a:custGeom>
                <a:avLst/>
                <a:gdLst/>
                <a:ahLst/>
                <a:rect l="l" t="t" r="r" b="b"/>
                <a:pathLst>
                  <a:path w="81" h="83">
                    <a:moveTo>
                      <a:pt x="81" y="0"/>
                    </a:moveTo>
                    <a:lnTo>
                      <a:pt x="0" y="43"/>
                    </a:lnTo>
                    <a:lnTo>
                      <a:pt x="81" y="83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859640" y="4518000"/>
                <a:ext cx="141840" cy="137520"/>
              </a:xfrm>
              <a:custGeom>
                <a:avLst/>
                <a:gdLst/>
                <a:ahLst/>
                <a:rect l="l" t="t" r="r" b="b"/>
                <a:pathLst>
                  <a:path w="80" h="83">
                    <a:moveTo>
                      <a:pt x="0" y="83"/>
                    </a:moveTo>
                    <a:lnTo>
                      <a:pt x="80" y="41"/>
                    </a:lnTo>
                    <a:lnTo>
                      <a:pt x="0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5205960" y="641520"/>
              <a:ext cx="2752920" cy="1353240"/>
              <a:chOff x="5205960" y="641520"/>
              <a:chExt cx="2752920" cy="1353240"/>
            </a:xfrm>
          </p:grpSpPr>
          <p:sp>
            <p:nvSpPr>
              <p:cNvPr id="819" name=""/>
              <p:cNvSpPr/>
              <p:nvPr/>
            </p:nvSpPr>
            <p:spPr>
              <a:xfrm>
                <a:off x="6507360" y="1406520"/>
                <a:ext cx="400320" cy="2534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829560" y="1968480"/>
                <a:ext cx="7268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746680" y="929880"/>
                <a:ext cx="435960" cy="167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6168240" y="1012680"/>
                <a:ext cx="186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5533560" y="1012680"/>
                <a:ext cx="217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812200" y="1140840"/>
                <a:ext cx="310320" cy="31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5" name=""/>
              <p:cNvGrpSpPr/>
              <p:nvPr/>
            </p:nvGrpSpPr>
            <p:grpSpPr>
              <a:xfrm>
                <a:off x="6260760" y="1454040"/>
                <a:ext cx="276480" cy="142920"/>
                <a:chOff x="6260760" y="1454040"/>
                <a:chExt cx="276480" cy="14292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6290280" y="1596240"/>
                  <a:ext cx="20088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375240" y="1470600"/>
                  <a:ext cx="123840" cy="12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283080" y="1454760"/>
                  <a:ext cx="20088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>
                  <a:off x="6260760" y="1470600"/>
                  <a:ext cx="123840" cy="12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483240" y="1454040"/>
                  <a:ext cx="5400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5290920" y="1016280"/>
                <a:ext cx="2462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83160" y="1016280"/>
                <a:ext cx="0" cy="25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368760" y="1016280"/>
                <a:ext cx="2480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V="1">
                <a:off x="6383160" y="1262880"/>
                <a:ext cx="3600" cy="18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6383160" y="1591560"/>
                <a:ext cx="3600" cy="36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58880" y="1968480"/>
                <a:ext cx="15278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778080" y="1937160"/>
                <a:ext cx="62280" cy="576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05960" y="1937160"/>
                <a:ext cx="61560" cy="576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05960" y="984600"/>
                <a:ext cx="61560" cy="583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6616800" y="1012680"/>
                <a:ext cx="1843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776640" y="984600"/>
                <a:ext cx="63720" cy="583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5244840" y="1109160"/>
                <a:ext cx="0" cy="753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6814080" y="1109160"/>
                <a:ext cx="2880" cy="753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443360" y="1273680"/>
                <a:ext cx="160920" cy="446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V="1">
                <a:off x="7523280" y="1703160"/>
                <a:ext cx="1440" cy="2685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7523280" y="1016280"/>
                <a:ext cx="1440" cy="2620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50720" y="1339920"/>
                <a:ext cx="308160" cy="313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845760" y="1016280"/>
                <a:ext cx="7250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338600" y="1671840"/>
                <a:ext cx="144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338600" y="1875960"/>
                <a:ext cx="217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7338600" y="1218240"/>
                <a:ext cx="386280" cy="471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502040" y="1844280"/>
                <a:ext cx="61560" cy="5760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460920" y="1062720"/>
                <a:ext cx="248040" cy="331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383080" y="641520"/>
                <a:ext cx="246240" cy="3283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444720" y="641520"/>
                <a:ext cx="248400" cy="3283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304960" y="1328040"/>
                <a:ext cx="292680" cy="331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891840" y="1344600"/>
                <a:ext cx="294120" cy="3301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 flipV="1">
              <a:off x="3277080" y="1876320"/>
              <a:ext cx="0" cy="4062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092560" y="2792520"/>
              <a:ext cx="0" cy="3146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571400" y="2028960"/>
              <a:ext cx="1082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903840" y="1954440"/>
              <a:ext cx="625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=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flipV="1">
              <a:off x="1271880" y="773640"/>
              <a:ext cx="1990800" cy="10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2752200" y="1318680"/>
              <a:ext cx="24120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943320" y="2729160"/>
              <a:ext cx="95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0 </a:t>
              </a:r>
              <a:r>
                <a:rPr b="0" lang="pl-P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pl-PL" sz="18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r>
                <a:rPr b="0" lang="pl-PL" sz="1800" spc="-1" strike="noStrike" baseline="-25000">
                  <a:solidFill>
                    <a:srgbClr val="0000ff"/>
                  </a:solidFill>
                  <a:latin typeface="Times New Roman"/>
                </a:rPr>
                <a:t>D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667200" y="1716840"/>
              <a:ext cx="510480" cy="982440"/>
            </a:xfrm>
            <a:custGeom>
              <a:avLst/>
              <a:gdLst/>
              <a:ahLst/>
              <a:rect l="l" t="t" r="r" b="b"/>
              <a:pathLst>
                <a:path w="256" h="528">
                  <a:moveTo>
                    <a:pt x="256" y="528"/>
                  </a:moveTo>
                  <a:lnTo>
                    <a:pt x="248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5238720" y="3565440"/>
            <a:ext cx="4091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D ma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/R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con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S. PARAMETRY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1108080" y="1098720"/>
                <a:ext cx="341964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1116000" y="2978280"/>
                <a:ext cx="31957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1084320" y="2004840"/>
                <a:ext cx="33145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MAX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71" name=""/>
          <p:cNvGrpSpPr/>
          <p:nvPr/>
        </p:nvGrpSpPr>
        <p:grpSpPr>
          <a:xfrm>
            <a:off x="6172200" y="1143000"/>
            <a:ext cx="2465280" cy="1295280"/>
            <a:chOff x="6172200" y="1143000"/>
            <a:chExt cx="2465280" cy="1295280"/>
          </a:xfrm>
        </p:grpSpPr>
        <p:sp>
          <p:nvSpPr>
            <p:cNvPr id="872" name=""/>
            <p:cNvSpPr/>
            <p:nvPr/>
          </p:nvSpPr>
          <p:spPr>
            <a:xfrm>
              <a:off x="7337520" y="1874880"/>
              <a:ext cx="358560" cy="242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626240" y="2412720"/>
              <a:ext cx="650880" cy="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656400" y="1419120"/>
              <a:ext cx="390600" cy="16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034040" y="1498320"/>
              <a:ext cx="167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6465960" y="1498320"/>
              <a:ext cx="1951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715080" y="1620720"/>
              <a:ext cx="277920" cy="30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7116840" y="1920600"/>
              <a:ext cx="247680" cy="136800"/>
              <a:chOff x="7116840" y="1920600"/>
              <a:chExt cx="247680" cy="136800"/>
            </a:xfrm>
          </p:grpSpPr>
          <p:sp>
            <p:nvSpPr>
              <p:cNvPr id="879" name=""/>
              <p:cNvSpPr/>
              <p:nvPr/>
            </p:nvSpPr>
            <p:spPr>
              <a:xfrm>
                <a:off x="7143480" y="2056680"/>
                <a:ext cx="1800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219440" y="1936440"/>
                <a:ext cx="11088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137000" y="1921320"/>
                <a:ext cx="1800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7116840" y="1936440"/>
                <a:ext cx="11088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315920" y="1920600"/>
                <a:ext cx="48600" cy="5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6248520" y="1501560"/>
              <a:ext cx="2206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26280" y="1501560"/>
              <a:ext cx="0" cy="24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213680" y="1501560"/>
              <a:ext cx="2221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7226280" y="1737720"/>
              <a:ext cx="3240" cy="179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7226280" y="2052360"/>
              <a:ext cx="3240" cy="34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19720" y="2412720"/>
              <a:ext cx="13683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580160" y="2382840"/>
              <a:ext cx="55800" cy="55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72200" y="2382840"/>
              <a:ext cx="55440" cy="55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172200" y="1471320"/>
              <a:ext cx="55440" cy="55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7435440" y="1498320"/>
              <a:ext cx="165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578720" y="1471320"/>
              <a:ext cx="57240" cy="55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207120" y="1590480"/>
              <a:ext cx="0" cy="72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7612200" y="1590480"/>
              <a:ext cx="2880" cy="72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175600" y="1747800"/>
              <a:ext cx="144360" cy="42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8247240" y="2158920"/>
              <a:ext cx="1440" cy="2570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8247240" y="1501200"/>
              <a:ext cx="1440" cy="2509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361360" y="1811160"/>
              <a:ext cx="276120" cy="3002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640640" y="1501560"/>
              <a:ext cx="649440" cy="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082000" y="2128680"/>
              <a:ext cx="1440" cy="212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082000" y="2324160"/>
              <a:ext cx="1951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8082000" y="1694880"/>
              <a:ext cx="345960" cy="45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228160" y="2293920"/>
              <a:ext cx="55440" cy="5544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96120" y="1546200"/>
              <a:ext cx="22212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330960" y="1143000"/>
              <a:ext cx="220680" cy="31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81720" y="1143000"/>
              <a:ext cx="222480" cy="31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261120" y="1800000"/>
              <a:ext cx="26208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82040" y="1815840"/>
              <a:ext cx="263520" cy="316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3487680" y="5424480"/>
                <a:ext cx="1703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2" name=""/>
          <p:cNvSpPr/>
          <p:nvPr/>
        </p:nvSpPr>
        <p:spPr>
          <a:xfrm>
            <a:off x="970200" y="4756320"/>
            <a:ext cx="66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spółczynnik temperaturowy napięcia wyjści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1177920" y="3956040"/>
                <a:ext cx="13287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7402680" y="2227320"/>
            <a:ext cx="564840" cy="1388880"/>
          </a:xfrm>
          <a:custGeom>
            <a:avLst/>
            <a:gdLst/>
            <a:ahLst/>
            <a:rect l="l" t="t" r="r" b="b"/>
            <a:pathLst>
              <a:path w="356" h="875">
                <a:moveTo>
                  <a:pt x="356" y="875"/>
                </a:moveTo>
                <a:lnTo>
                  <a:pt x="35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717320" y="36752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3949560" y="601560"/>
            <a:ext cx="231840" cy="19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TRANZYS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1415880" y="1862280"/>
            <a:ext cx="2859840" cy="2314440"/>
            <a:chOff x="1415880" y="1862280"/>
            <a:chExt cx="2859840" cy="2314440"/>
          </a:xfrm>
        </p:grpSpPr>
        <p:sp>
          <p:nvSpPr>
            <p:cNvPr id="919" name=""/>
            <p:cNvSpPr/>
            <p:nvPr/>
          </p:nvSpPr>
          <p:spPr>
            <a:xfrm>
              <a:off x="2509920" y="3036960"/>
              <a:ext cx="495360" cy="177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2982960" y="3122640"/>
              <a:ext cx="203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2274840" y="3122640"/>
              <a:ext cx="2412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549520" y="3271680"/>
              <a:ext cx="349200" cy="3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634840" y="33163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922480" y="2228760"/>
              <a:ext cx="555840" cy="53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043080" y="2592360"/>
              <a:ext cx="30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2987280" y="2313000"/>
              <a:ext cx="127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3240000" y="2406240"/>
              <a:ext cx="117360" cy="168120"/>
              <a:chOff x="3240000" y="2406240"/>
              <a:chExt cx="117360" cy="168120"/>
            </a:xfrm>
          </p:grpSpPr>
          <p:sp>
            <p:nvSpPr>
              <p:cNvPr id="928" name=""/>
              <p:cNvSpPr/>
              <p:nvPr/>
            </p:nvSpPr>
            <p:spPr>
              <a:xfrm flipV="1">
                <a:off x="3262680" y="2406240"/>
                <a:ext cx="88560" cy="16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240000" y="2406600"/>
                <a:ext cx="117360" cy="1303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41" y="48"/>
                    </a:moveTo>
                    <a:lnTo>
                      <a:pt x="39" y="0"/>
                    </a:lnTo>
                    <a:lnTo>
                      <a:pt x="0" y="2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 flipV="1">
              <a:off x="3351240" y="2312640"/>
              <a:ext cx="5544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203640" y="2592360"/>
              <a:ext cx="468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2" name=""/>
            <p:cNvGrpSpPr/>
            <p:nvPr/>
          </p:nvGrpSpPr>
          <p:grpSpPr>
            <a:xfrm>
              <a:off x="3400560" y="2255760"/>
              <a:ext cx="286920" cy="109080"/>
              <a:chOff x="3400560" y="2255760"/>
              <a:chExt cx="286920" cy="109080"/>
            </a:xfrm>
          </p:grpSpPr>
          <p:sp>
            <p:nvSpPr>
              <p:cNvPr id="933" name=""/>
              <p:cNvSpPr/>
              <p:nvPr/>
            </p:nvSpPr>
            <p:spPr>
              <a:xfrm flipV="1">
                <a:off x="3400560" y="2306880"/>
                <a:ext cx="2869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572280" y="2255760"/>
                <a:ext cx="11484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 flipH="1">
              <a:off x="2784240" y="2308320"/>
              <a:ext cx="198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3203640" y="2747520"/>
              <a:ext cx="4680" cy="187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3143160" y="3124080"/>
              <a:ext cx="114120" cy="233280"/>
              <a:chOff x="3143160" y="3124080"/>
              <a:chExt cx="114120" cy="233280"/>
            </a:xfrm>
          </p:grpSpPr>
          <p:sp>
            <p:nvSpPr>
              <p:cNvPr id="938" name=""/>
              <p:cNvSpPr/>
              <p:nvPr/>
            </p:nvSpPr>
            <p:spPr>
              <a:xfrm>
                <a:off x="3203280" y="3124080"/>
                <a:ext cx="2520" cy="233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143160" y="3247200"/>
                <a:ext cx="114120" cy="10980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0"/>
                    </a:moveTo>
                    <a:lnTo>
                      <a:pt x="21" y="40"/>
                    </a:lnTo>
                    <a:lnTo>
                      <a:pt x="4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3147840" y="2895480"/>
              <a:ext cx="115560" cy="228240"/>
              <a:chOff x="3147840" y="2895480"/>
              <a:chExt cx="115560" cy="228240"/>
            </a:xfrm>
          </p:grpSpPr>
          <p:sp>
            <p:nvSpPr>
              <p:cNvPr id="941" name=""/>
              <p:cNvSpPr/>
              <p:nvPr/>
            </p:nvSpPr>
            <p:spPr>
              <a:xfrm flipV="1">
                <a:off x="3202920" y="2895480"/>
                <a:ext cx="2520" cy="228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147840" y="2895480"/>
                <a:ext cx="115560" cy="108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3083040" y="3533760"/>
              <a:ext cx="255960" cy="146520"/>
              <a:chOff x="3083040" y="3533760"/>
              <a:chExt cx="255960" cy="146520"/>
            </a:xfrm>
          </p:grpSpPr>
          <p:grpSp>
            <p:nvGrpSpPr>
              <p:cNvPr id="944" name=""/>
              <p:cNvGrpSpPr/>
              <p:nvPr/>
            </p:nvGrpSpPr>
            <p:grpSpPr>
              <a:xfrm>
                <a:off x="3083040" y="3533760"/>
                <a:ext cx="255960" cy="146520"/>
                <a:chOff x="3083040" y="3533760"/>
                <a:chExt cx="255960" cy="146520"/>
              </a:xfrm>
            </p:grpSpPr>
            <p:sp>
              <p:nvSpPr>
                <p:cNvPr id="945" name=""/>
                <p:cNvSpPr/>
                <p:nvPr/>
              </p:nvSpPr>
              <p:spPr>
                <a:xfrm>
                  <a:off x="3083040" y="3664440"/>
                  <a:ext cx="2253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V="1">
                  <a:off x="3100320" y="3549960"/>
                  <a:ext cx="10260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202920" y="3550320"/>
                  <a:ext cx="13608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3100320" y="3533760"/>
                  <a:ext cx="222120" cy="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9" name=""/>
              <p:cNvSpPr/>
              <p:nvPr/>
            </p:nvSpPr>
            <p:spPr>
              <a:xfrm>
                <a:off x="3291120" y="3533760"/>
                <a:ext cx="31680" cy="5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0" name=""/>
            <p:cNvSpPr/>
            <p:nvPr/>
          </p:nvSpPr>
          <p:spPr>
            <a:xfrm>
              <a:off x="3203640" y="3373560"/>
              <a:ext cx="144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2036880" y="2255760"/>
              <a:ext cx="807480" cy="109080"/>
              <a:chOff x="2036880" y="2255760"/>
              <a:chExt cx="807480" cy="109080"/>
            </a:xfrm>
          </p:grpSpPr>
          <p:sp>
            <p:nvSpPr>
              <p:cNvPr id="952" name=""/>
              <p:cNvSpPr/>
              <p:nvPr/>
            </p:nvSpPr>
            <p:spPr>
              <a:xfrm>
                <a:off x="2036880" y="2307240"/>
                <a:ext cx="80748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729880" y="225576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4" name=""/>
            <p:cNvSpPr/>
            <p:nvPr/>
          </p:nvSpPr>
          <p:spPr>
            <a:xfrm>
              <a:off x="2289240" y="2308320"/>
              <a:ext cx="6120" cy="815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1828800" y="2255760"/>
              <a:ext cx="239400" cy="109080"/>
              <a:chOff x="1828800" y="2255760"/>
              <a:chExt cx="239400" cy="109080"/>
            </a:xfrm>
          </p:grpSpPr>
          <p:sp>
            <p:nvSpPr>
              <p:cNvPr id="956" name=""/>
              <p:cNvSpPr/>
              <p:nvPr/>
            </p:nvSpPr>
            <p:spPr>
              <a:xfrm>
                <a:off x="1828800" y="2307240"/>
                <a:ext cx="23940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954080" y="2255760"/>
                <a:ext cx="11376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3203640" y="3681360"/>
              <a:ext cx="1440" cy="47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1828800" y="4143240"/>
              <a:ext cx="20620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3674880" y="2313000"/>
              <a:ext cx="191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3882960" y="2484360"/>
              <a:ext cx="114120" cy="1498320"/>
              <a:chOff x="3882960" y="2484360"/>
              <a:chExt cx="114120" cy="1498320"/>
            </a:xfrm>
          </p:grpSpPr>
          <p:sp>
            <p:nvSpPr>
              <p:cNvPr id="962" name=""/>
              <p:cNvSpPr/>
              <p:nvPr/>
            </p:nvSpPr>
            <p:spPr>
              <a:xfrm flipV="1">
                <a:off x="3936600" y="2484360"/>
                <a:ext cx="3240" cy="1498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882960" y="248436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1773360" y="2455560"/>
              <a:ext cx="115560" cy="1488600"/>
              <a:chOff x="1773360" y="2455560"/>
              <a:chExt cx="115560" cy="1488600"/>
            </a:xfrm>
          </p:grpSpPr>
          <p:sp>
            <p:nvSpPr>
              <p:cNvPr id="965" name=""/>
              <p:cNvSpPr/>
              <p:nvPr/>
            </p:nvSpPr>
            <p:spPr>
              <a:xfrm flipV="1">
                <a:off x="1828080" y="2455560"/>
                <a:ext cx="2520" cy="1488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773360" y="2455920"/>
                <a:ext cx="115560" cy="10944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7" name=""/>
            <p:cNvSpPr/>
            <p:nvPr/>
          </p:nvSpPr>
          <p:spPr>
            <a:xfrm>
              <a:off x="3160800" y="3094200"/>
              <a:ext cx="75960" cy="633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160800" y="4108320"/>
              <a:ext cx="75960" cy="68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252520" y="2268360"/>
              <a:ext cx="71640" cy="702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785960" y="4108320"/>
              <a:ext cx="7452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785960" y="2268360"/>
              <a:ext cx="74520" cy="702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848040" y="4108320"/>
              <a:ext cx="7632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830760" y="2268360"/>
              <a:ext cx="75960" cy="702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860480" y="1862280"/>
              <a:ext cx="35244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95372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002680" y="2001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498760" y="1862280"/>
              <a:ext cx="35244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8084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611440" y="1992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411360" y="1862280"/>
              <a:ext cx="65916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50028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578040" y="20019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670200" y="189720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806280" y="1992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322800" y="274788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406320" y="2786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425400" y="28893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322800" y="314172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400200" y="31798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440160" y="3263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415880" y="300996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465200" y="30481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553760" y="3132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4111560" y="3106800"/>
              <a:ext cx="164160" cy="228600"/>
              <a:chOff x="4111560" y="3106800"/>
              <a:chExt cx="164160" cy="228600"/>
            </a:xfrm>
          </p:grpSpPr>
          <p:sp>
            <p:nvSpPr>
              <p:cNvPr id="995" name=""/>
              <p:cNvSpPr/>
              <p:nvPr/>
            </p:nvSpPr>
            <p:spPr>
              <a:xfrm>
                <a:off x="4111560" y="31068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210920" y="3182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7" name=""/>
            <p:cNvSpPr/>
            <p:nvPr/>
          </p:nvSpPr>
          <p:spPr>
            <a:xfrm>
              <a:off x="2687760" y="3699000"/>
              <a:ext cx="473040" cy="349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766960" y="373392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396240" y="3541680"/>
              <a:ext cx="398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99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3416400" y="3454560"/>
              <a:ext cx="0" cy="4572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3339720" y="2476440"/>
              <a:ext cx="343080" cy="336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513960" y="2562120"/>
              <a:ext cx="3650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en-US" sz="1000" spc="-1" strike="noStrike" baseline="-25000">
                  <a:solidFill>
                    <a:srgbClr val="3333cc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4834080" y="1217520"/>
            <a:ext cx="3243240" cy="5100840"/>
            <a:chOff x="4834080" y="1217520"/>
            <a:chExt cx="3243240" cy="5100840"/>
          </a:xfrm>
        </p:grpSpPr>
        <p:grpSp>
          <p:nvGrpSpPr>
            <p:cNvPr id="1004" name=""/>
            <p:cNvGrpSpPr/>
            <p:nvPr/>
          </p:nvGrpSpPr>
          <p:grpSpPr>
            <a:xfrm>
              <a:off x="6554880" y="3476520"/>
              <a:ext cx="457200" cy="417600"/>
              <a:chOff x="6554880" y="3476520"/>
              <a:chExt cx="457200" cy="417600"/>
            </a:xfrm>
          </p:grpSpPr>
          <p:sp>
            <p:nvSpPr>
              <p:cNvPr id="1005" name=""/>
              <p:cNvSpPr/>
              <p:nvPr/>
            </p:nvSpPr>
            <p:spPr>
              <a:xfrm>
                <a:off x="6558120" y="3479760"/>
                <a:ext cx="450720" cy="41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554880" y="3479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554880" y="3492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554880" y="35053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554880" y="3516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54880" y="35290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554880" y="3541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554880" y="3552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554880" y="35654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554880" y="35784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554880" y="35895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554880" y="36021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554880" y="3614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54880" y="36259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554880" y="3638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554880" y="3651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554880" y="366408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554880" y="3675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554880" y="3687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6554880" y="3700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554880" y="3711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54880" y="3724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554880" y="373716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554880" y="37483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554880" y="37609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554880" y="37735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554880" y="3784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554880" y="3797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554880" y="3810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54880" y="38210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554880" y="3834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554880" y="3846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554880" y="3857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554880" y="38703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554880" y="38829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5613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5739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8512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5977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6103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6214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6340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64704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65964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67080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6834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696000" y="388944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7071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7197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73272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74388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7564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7690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7802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7928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80580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8166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8295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8421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68533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8659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8785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8896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90264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9152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92784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90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9516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96456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9753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98832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00092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005600" y="38829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005600" y="38703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005600" y="3857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005600" y="3846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005600" y="3834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005600" y="38210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005600" y="3810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005600" y="3797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005600" y="3784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005600" y="37735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005600" y="37609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005600" y="37483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005600" y="373716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005600" y="3724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005600" y="3711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005600" y="3700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005600" y="3687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005600" y="3675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005600" y="366408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005600" y="3651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005600" y="3638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005600" y="36259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005600" y="3614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005600" y="36021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005600" y="35895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005600" y="35784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005600" y="35654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005600" y="3552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005600" y="3541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005600" y="35290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005600" y="3516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005600" y="35053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005600" y="3492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005600" y="3479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9976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9850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97248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9613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9483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9357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924600" y="34765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91200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8994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88824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87564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8626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851520" y="34765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8389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8263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81372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80256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78996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77700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76584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75324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74064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7294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71688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7039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6931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6801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6675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65640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6438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6312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62004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6070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5944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5833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5707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55812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6732720" y="3529080"/>
              <a:ext cx="426240" cy="404640"/>
              <a:chOff x="6732720" y="3529080"/>
              <a:chExt cx="426240" cy="404640"/>
            </a:xfrm>
          </p:grpSpPr>
          <p:sp>
            <p:nvSpPr>
              <p:cNvPr id="1149" name=""/>
              <p:cNvSpPr/>
              <p:nvPr/>
            </p:nvSpPr>
            <p:spPr>
              <a:xfrm>
                <a:off x="6732720" y="3722400"/>
                <a:ext cx="358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748200" y="35290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804720" y="359388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835320" y="37810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004880" y="3716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906600" y="3593880"/>
                <a:ext cx="25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767280" y="3700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921000" y="370044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6648480" y="5727600"/>
              <a:ext cx="325440" cy="1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665760" y="57513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741720" y="5813280"/>
              <a:ext cx="19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t0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870600" y="5813280"/>
              <a:ext cx="12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1" name=""/>
            <p:cNvGrpSpPr/>
            <p:nvPr/>
          </p:nvGrpSpPr>
          <p:grpSpPr>
            <a:xfrm>
              <a:off x="5618160" y="3610080"/>
              <a:ext cx="203400" cy="238320"/>
              <a:chOff x="5618160" y="3610080"/>
              <a:chExt cx="203400" cy="238320"/>
            </a:xfrm>
          </p:grpSpPr>
          <p:sp>
            <p:nvSpPr>
              <p:cNvPr id="1162" name=""/>
              <p:cNvSpPr/>
              <p:nvPr/>
            </p:nvSpPr>
            <p:spPr>
              <a:xfrm>
                <a:off x="5618160" y="3610080"/>
                <a:ext cx="203400" cy="19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666040" y="363528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99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708880" y="36957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99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5657760" y="4017960"/>
              <a:ext cx="204840" cy="238320"/>
              <a:chOff x="5657760" y="4017960"/>
              <a:chExt cx="204840" cy="238320"/>
            </a:xfrm>
          </p:grpSpPr>
          <p:sp>
            <p:nvSpPr>
              <p:cNvPr id="1166" name=""/>
              <p:cNvSpPr/>
              <p:nvPr/>
            </p:nvSpPr>
            <p:spPr>
              <a:xfrm>
                <a:off x="5657760" y="4017960"/>
                <a:ext cx="204840" cy="19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713200" y="404316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756040" y="41036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5214960" y="1306440"/>
              <a:ext cx="63360" cy="1381320"/>
              <a:chOff x="5214960" y="1306440"/>
              <a:chExt cx="63360" cy="1381320"/>
            </a:xfrm>
          </p:grpSpPr>
          <p:sp>
            <p:nvSpPr>
              <p:cNvPr id="1170" name=""/>
              <p:cNvSpPr/>
              <p:nvPr/>
            </p:nvSpPr>
            <p:spPr>
              <a:xfrm>
                <a:off x="5244840" y="1363680"/>
                <a:ext cx="3240" cy="1324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214960" y="1306440"/>
                <a:ext cx="6336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5237280" y="2870280"/>
              <a:ext cx="63360" cy="1380960"/>
              <a:chOff x="5237280" y="2870280"/>
              <a:chExt cx="63360" cy="1380960"/>
            </a:xfrm>
          </p:grpSpPr>
          <p:sp>
            <p:nvSpPr>
              <p:cNvPr id="1173" name=""/>
              <p:cNvSpPr/>
              <p:nvPr/>
            </p:nvSpPr>
            <p:spPr>
              <a:xfrm>
                <a:off x="5267160" y="2928960"/>
                <a:ext cx="1080" cy="1322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237280" y="28702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5260680" y="4214880"/>
              <a:ext cx="2816640" cy="63360"/>
              <a:chOff x="5260680" y="4214880"/>
              <a:chExt cx="2816640" cy="63360"/>
            </a:xfrm>
          </p:grpSpPr>
          <p:sp>
            <p:nvSpPr>
              <p:cNvPr id="1176" name=""/>
              <p:cNvSpPr/>
              <p:nvPr/>
            </p:nvSpPr>
            <p:spPr>
              <a:xfrm flipH="1">
                <a:off x="5260680" y="4245120"/>
                <a:ext cx="2759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8013960" y="42148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5237280" y="4651200"/>
              <a:ext cx="63360" cy="1380960"/>
              <a:chOff x="5237280" y="4651200"/>
              <a:chExt cx="63360" cy="1380960"/>
            </a:xfrm>
          </p:grpSpPr>
          <p:sp>
            <p:nvSpPr>
              <p:cNvPr id="1179" name=""/>
              <p:cNvSpPr/>
              <p:nvPr/>
            </p:nvSpPr>
            <p:spPr>
              <a:xfrm>
                <a:off x="5267160" y="4708080"/>
                <a:ext cx="1080" cy="1324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237280" y="465120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5241600" y="2651040"/>
              <a:ext cx="2778480" cy="63720"/>
              <a:chOff x="5241600" y="2651040"/>
              <a:chExt cx="2778480" cy="63720"/>
            </a:xfrm>
          </p:grpSpPr>
          <p:sp>
            <p:nvSpPr>
              <p:cNvPr id="1182" name=""/>
              <p:cNvSpPr/>
              <p:nvPr/>
            </p:nvSpPr>
            <p:spPr>
              <a:xfrm flipH="1">
                <a:off x="5241600" y="2681280"/>
                <a:ext cx="271908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956360" y="2651040"/>
                <a:ext cx="6372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5261040" y="5992920"/>
              <a:ext cx="2795040" cy="63360"/>
              <a:chOff x="5261040" y="5992920"/>
              <a:chExt cx="2795040" cy="63360"/>
            </a:xfrm>
          </p:grpSpPr>
          <p:sp>
            <p:nvSpPr>
              <p:cNvPr id="1185" name=""/>
              <p:cNvSpPr/>
              <p:nvPr/>
            </p:nvSpPr>
            <p:spPr>
              <a:xfrm flipH="1">
                <a:off x="5261040" y="6023160"/>
                <a:ext cx="273672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993080" y="5992920"/>
                <a:ext cx="6300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7" name=""/>
            <p:cNvSpPr/>
            <p:nvPr/>
          </p:nvSpPr>
          <p:spPr>
            <a:xfrm>
              <a:off x="5245200" y="1915920"/>
              <a:ext cx="1222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464520" y="1915920"/>
              <a:ext cx="10983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251680" y="3633840"/>
              <a:ext cx="1215720" cy="6080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5267520" y="3115800"/>
              <a:ext cx="2279520" cy="11257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5267520" y="5889600"/>
              <a:ext cx="119988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V="1">
              <a:off x="6464520" y="5250960"/>
              <a:ext cx="109836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389560" y="1287360"/>
              <a:ext cx="547920" cy="18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416560" y="1312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506560" y="1373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550120" y="1312920"/>
              <a:ext cx="35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=con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443640" y="1906560"/>
              <a:ext cx="396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529400" y="2660760"/>
              <a:ext cx="432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241960" y="3627360"/>
              <a:ext cx="4284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434280" y="3637080"/>
              <a:ext cx="3960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443640" y="4221000"/>
              <a:ext cx="39600" cy="399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523280" y="3087720"/>
              <a:ext cx="4284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529400" y="5241960"/>
              <a:ext cx="432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443640" y="5870520"/>
              <a:ext cx="396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5" name=""/>
            <p:cNvGrpSpPr/>
            <p:nvPr/>
          </p:nvGrpSpPr>
          <p:grpSpPr>
            <a:xfrm>
              <a:off x="5462640" y="1654200"/>
              <a:ext cx="291600" cy="241200"/>
              <a:chOff x="5462640" y="1654200"/>
              <a:chExt cx="291600" cy="241200"/>
            </a:xfrm>
          </p:grpSpPr>
          <p:sp>
            <p:nvSpPr>
              <p:cNvPr id="1206" name=""/>
              <p:cNvSpPr/>
              <p:nvPr/>
            </p:nvSpPr>
            <p:spPr>
              <a:xfrm>
                <a:off x="5462640" y="1654200"/>
                <a:ext cx="291600" cy="17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513400" y="16826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608080" y="174276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9" name=""/>
            <p:cNvSpPr/>
            <p:nvPr/>
          </p:nvSpPr>
          <p:spPr>
            <a:xfrm>
              <a:off x="5006880" y="12175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098680" y="1279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858080" y="2717640"/>
              <a:ext cx="201600" cy="19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913520" y="27417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956000" y="2803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496200" y="2708280"/>
              <a:ext cx="325440" cy="20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522840" y="2733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565680" y="2793960"/>
              <a:ext cx="34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0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419960" y="2708280"/>
              <a:ext cx="279360" cy="18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443360" y="2733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486560" y="279396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" name=""/>
            <p:cNvGrpSpPr/>
            <p:nvPr/>
          </p:nvGrpSpPr>
          <p:grpSpPr>
            <a:xfrm>
              <a:off x="5016600" y="2797200"/>
              <a:ext cx="204480" cy="238320"/>
              <a:chOff x="5016600" y="2797200"/>
              <a:chExt cx="204480" cy="238320"/>
            </a:xfrm>
          </p:grpSpPr>
          <p:sp>
            <p:nvSpPr>
              <p:cNvPr id="1221" name=""/>
              <p:cNvSpPr/>
              <p:nvPr/>
            </p:nvSpPr>
            <p:spPr>
              <a:xfrm>
                <a:off x="5016600" y="2797200"/>
                <a:ext cx="204480" cy="19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065200" y="28224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108400" y="2882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4" name=""/>
            <p:cNvSpPr/>
            <p:nvPr/>
          </p:nvSpPr>
          <p:spPr>
            <a:xfrm>
              <a:off x="5016600" y="3031920"/>
              <a:ext cx="204840" cy="1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071680" y="3056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114520" y="31179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4834080" y="3419280"/>
              <a:ext cx="384120" cy="238320"/>
              <a:chOff x="4834080" y="3419280"/>
              <a:chExt cx="384120" cy="238320"/>
            </a:xfrm>
          </p:grpSpPr>
          <p:sp>
            <p:nvSpPr>
              <p:cNvPr id="1228" name=""/>
              <p:cNvSpPr/>
              <p:nvPr/>
            </p:nvSpPr>
            <p:spPr>
              <a:xfrm>
                <a:off x="4834080" y="3419280"/>
                <a:ext cx="384120" cy="19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901760" y="34430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943520" y="3504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043240" y="3436560"/>
                <a:ext cx="150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(0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2" name=""/>
            <p:cNvSpPr/>
            <p:nvPr/>
          </p:nvSpPr>
          <p:spPr>
            <a:xfrm>
              <a:off x="7867800" y="6081840"/>
              <a:ext cx="203040" cy="19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921440" y="6105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963920" y="6165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867800" y="4297320"/>
              <a:ext cx="20304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921440" y="43243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963920" y="4386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8" name=""/>
            <p:cNvGrpSpPr/>
            <p:nvPr/>
          </p:nvGrpSpPr>
          <p:grpSpPr>
            <a:xfrm>
              <a:off x="6500880" y="5886360"/>
              <a:ext cx="140760" cy="4680"/>
              <a:chOff x="6500880" y="5886360"/>
              <a:chExt cx="140760" cy="4680"/>
            </a:xfrm>
          </p:grpSpPr>
          <p:sp>
            <p:nvSpPr>
              <p:cNvPr id="1239" name=""/>
              <p:cNvSpPr/>
              <p:nvPr/>
            </p:nvSpPr>
            <p:spPr>
              <a:xfrm>
                <a:off x="650088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51348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52608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53868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54984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56244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57540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58656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59916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61176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62292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63552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1" name=""/>
            <p:cNvSpPr/>
            <p:nvPr/>
          </p:nvSpPr>
          <p:spPr>
            <a:xfrm>
              <a:off x="5006880" y="4575240"/>
              <a:ext cx="20484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059080" y="4599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135400" y="4660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599240" y="5157720"/>
              <a:ext cx="328680" cy="19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42080" y="5181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718400" y="524196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t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7" name=""/>
            <p:cNvGrpSpPr/>
            <p:nvPr/>
          </p:nvGrpSpPr>
          <p:grpSpPr>
            <a:xfrm>
              <a:off x="5052960" y="2571840"/>
              <a:ext cx="168120" cy="207360"/>
              <a:chOff x="5052960" y="2571840"/>
              <a:chExt cx="168120" cy="2073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056200" y="2574720"/>
                <a:ext cx="161640" cy="20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052960" y="257472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052960" y="258732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052960" y="25984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052960" y="2611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052960" y="262368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052960" y="2634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052960" y="26478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052960" y="266040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052960" y="267156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052960" y="26841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2960" y="2696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052960" y="27079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052960" y="2720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052960" y="273348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052960" y="274464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052960" y="2757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052960" y="2769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06232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07492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08608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09904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11164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12280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13540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14800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160960" y="277308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17176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18472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197320" y="277308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20848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214960" y="2766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214960" y="27540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214960" y="27414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214960" y="2730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214960" y="271764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214960" y="2704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214960" y="2693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214960" y="26809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214960" y="26683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214960" y="26571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214960" y="264456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214960" y="2631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214960" y="26208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214960" y="2607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214960" y="2595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214960" y="258408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214960" y="25718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20200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19084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17824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16564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15448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14188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12892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118120" y="257184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10516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09256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081400" y="257184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06880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05620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"/>
            <p:cNvSpPr/>
            <p:nvPr/>
          </p:nvSpPr>
          <p:spPr>
            <a:xfrm>
              <a:off x="5104800" y="2595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0" name=""/>
            <p:cNvGrpSpPr/>
            <p:nvPr/>
          </p:nvGrpSpPr>
          <p:grpSpPr>
            <a:xfrm>
              <a:off x="5072040" y="4141800"/>
              <a:ext cx="166680" cy="208080"/>
              <a:chOff x="5072040" y="4141800"/>
              <a:chExt cx="166680" cy="208080"/>
            </a:xfrm>
          </p:grpSpPr>
          <p:sp>
            <p:nvSpPr>
              <p:cNvPr id="1321" name=""/>
              <p:cNvSpPr/>
              <p:nvPr/>
            </p:nvSpPr>
            <p:spPr>
              <a:xfrm>
                <a:off x="5074920" y="4145040"/>
                <a:ext cx="162000" cy="20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072040" y="41450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072040" y="41576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072040" y="4168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072040" y="4181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072040" y="41943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072040" y="4205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072040" y="4218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072040" y="4230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072040" y="4241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072040" y="4254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072040" y="4267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072040" y="42782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072040" y="4291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072040" y="4303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072040" y="431640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072040" y="4327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072040" y="4340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081400" y="43434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09256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10516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118120" y="43434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12892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14188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15448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16564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17824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19084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20200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21496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22756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233680" y="433728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233680" y="43243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233680" y="4313160"/>
                <a:ext cx="504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233680" y="430056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233680" y="428796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233680" y="427680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233680" y="426420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233680" y="425124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233680" y="423864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233680" y="422748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233680" y="421488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233680" y="420228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233680" y="419112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233680" y="417852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233680" y="416556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233680" y="415440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233680" y="41418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2210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2084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197320" y="41418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18472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17176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160960" y="41418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14800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13540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12280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11164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09904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0860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07492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2" name=""/>
            <p:cNvSpPr/>
            <p:nvPr/>
          </p:nvSpPr>
          <p:spPr>
            <a:xfrm>
              <a:off x="5122440" y="4168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3" name=""/>
            <p:cNvGrpSpPr/>
            <p:nvPr/>
          </p:nvGrpSpPr>
          <p:grpSpPr>
            <a:xfrm>
              <a:off x="5062680" y="5925960"/>
              <a:ext cx="167760" cy="206280"/>
              <a:chOff x="5062680" y="5925960"/>
              <a:chExt cx="167760" cy="206280"/>
            </a:xfrm>
          </p:grpSpPr>
          <p:sp>
            <p:nvSpPr>
              <p:cNvPr id="1384" name=""/>
              <p:cNvSpPr/>
              <p:nvPr/>
            </p:nvSpPr>
            <p:spPr>
              <a:xfrm>
                <a:off x="5065560" y="5927400"/>
                <a:ext cx="161640" cy="20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062680" y="5927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062680" y="5940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062680" y="5952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062680" y="59655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062680" y="5976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062680" y="59893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062680" y="6001920"/>
                <a:ext cx="612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062680" y="60130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062680" y="60256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062680" y="60386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062680" y="6049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062680" y="6062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062680" y="6075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062680" y="6086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062680" y="6098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062680" y="6111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5062680" y="6122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507204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508464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09580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10840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121000" y="612576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13216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514512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515772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516888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518148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519408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520524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21784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5224320" y="61196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224320" y="61084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224320" y="60958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224320" y="60829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224320" y="6071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224320" y="6059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224320" y="60465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224320" y="6035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224320" y="6022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224320" y="60098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5224320" y="5999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224320" y="59860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224320" y="5973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224320" y="596232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224320" y="5949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5224320" y="5937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224320" y="59259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21172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1987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18796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17500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16240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15124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13864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12604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11488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10192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08932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0781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0655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5" name=""/>
            <p:cNvSpPr/>
            <p:nvPr/>
          </p:nvSpPr>
          <p:spPr>
            <a:xfrm>
              <a:off x="5114520" y="5950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6" name=""/>
            <p:cNvGrpSpPr/>
            <p:nvPr/>
          </p:nvGrpSpPr>
          <p:grpSpPr>
            <a:xfrm>
              <a:off x="7575480" y="2944800"/>
              <a:ext cx="345240" cy="339840"/>
              <a:chOff x="7575480" y="2944800"/>
              <a:chExt cx="345240" cy="339840"/>
            </a:xfrm>
          </p:grpSpPr>
          <p:sp>
            <p:nvSpPr>
              <p:cNvPr id="1447" name=""/>
              <p:cNvSpPr/>
              <p:nvPr/>
            </p:nvSpPr>
            <p:spPr>
              <a:xfrm>
                <a:off x="7575480" y="3138480"/>
                <a:ext cx="312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586280" y="2944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639920" y="30099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794000" y="31320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700400" y="3009960"/>
                <a:ext cx="220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606800" y="3116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710120" y="311616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4" name=""/>
            <p:cNvSpPr/>
            <p:nvPr/>
          </p:nvSpPr>
          <p:spPr>
            <a:xfrm>
              <a:off x="6497640" y="1525680"/>
              <a:ext cx="0" cy="330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667200" y="1565280"/>
              <a:ext cx="813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1000" spc="-1" strike="noStrike" baseline="-25000">
                  <a:solidFill>
                    <a:srgbClr val="cc0000"/>
                  </a:solidFill>
                  <a:latin typeface="Times New Roman"/>
                </a:rPr>
                <a:t>CE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&gt;U</a:t>
              </a:r>
              <a:r>
                <a:rPr b="0" lang="en-US" sz="1000" spc="-1" strike="noStrike" baseline="-25000">
                  <a:solidFill>
                    <a:srgbClr val="cc0000"/>
                  </a:solidFill>
                  <a:latin typeface="Times New Roman"/>
                </a:rPr>
                <a:t>CE min 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!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V="1">
              <a:off x="6456240" y="1963800"/>
              <a:ext cx="0" cy="4044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265720" y="3646440"/>
              <a:ext cx="117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7534440" y="2684520"/>
              <a:ext cx="0" cy="3340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257800" y="1509840"/>
              <a:ext cx="2363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653400" y="5678640"/>
            <a:ext cx="3626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większona obciążalnoś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mniejszon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Bet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rotnie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693960" y="2895480"/>
            <a:ext cx="863640" cy="1338480"/>
          </a:xfrm>
          <a:custGeom>
            <a:avLst/>
            <a:gdLst/>
            <a:ahLst/>
            <a:rect l="l" t="t" r="r" b="b"/>
            <a:pathLst>
              <a:path w="544" h="843">
                <a:moveTo>
                  <a:pt x="544" y="843"/>
                </a:moveTo>
                <a:lnTo>
                  <a:pt x="5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331160" y="41781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551240" y="4397400"/>
            <a:ext cx="161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4" name=""/>
              <p:cNvSpPr txBox="1"/>
              <p:nvPr/>
            </p:nvSpPr>
            <p:spPr>
              <a:xfrm>
                <a:off x="1944720" y="1768320"/>
                <a:ext cx="21398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5" name=""/>
              <p:cNvSpPr txBox="1"/>
              <p:nvPr/>
            </p:nvSpPr>
            <p:spPr>
              <a:xfrm>
                <a:off x="1881360" y="2492280"/>
                <a:ext cx="33829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6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6" name=""/>
              <p:cNvSpPr txBox="1"/>
              <p:nvPr/>
            </p:nvSpPr>
            <p:spPr>
              <a:xfrm>
                <a:off x="1957320" y="3514680"/>
                <a:ext cx="32828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"/>
              <p:cNvSpPr txBox="1"/>
              <p:nvPr/>
            </p:nvSpPr>
            <p:spPr>
              <a:xfrm>
                <a:off x="2030400" y="4573440"/>
                <a:ext cx="44118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8" name=""/>
          <p:cNvSpPr/>
          <p:nvPr/>
        </p:nvSpPr>
        <p:spPr>
          <a:xfrm>
            <a:off x="0" y="247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TRANZYS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" descr=""/>
          <p:cNvPicPr/>
          <p:nvPr/>
        </p:nvPicPr>
        <p:blipFill>
          <a:blip r:embed="rId1"/>
          <a:stretch/>
        </p:blipFill>
        <p:spPr>
          <a:xfrm>
            <a:off x="719280" y="1533600"/>
            <a:ext cx="3168360" cy="1969920"/>
          </a:xfrm>
          <a:prstGeom prst="rect">
            <a:avLst/>
          </a:prstGeom>
          <a:ln w="0">
            <a:noFill/>
          </a:ln>
        </p:spPr>
      </p:pic>
      <p:pic>
        <p:nvPicPr>
          <p:cNvPr id="1470" name="" descr=""/>
          <p:cNvPicPr/>
          <p:nvPr/>
        </p:nvPicPr>
        <p:blipFill>
          <a:blip r:embed="rId2"/>
          <a:stretch/>
        </p:blipFill>
        <p:spPr>
          <a:xfrm>
            <a:off x="4900680" y="1504800"/>
            <a:ext cx="3351240" cy="2073600"/>
          </a:xfrm>
          <a:prstGeom prst="rect">
            <a:avLst/>
          </a:prstGeom>
          <a:ln w="0">
            <a:noFill/>
          </a:ln>
        </p:spPr>
      </p:pic>
      <p:pic>
        <p:nvPicPr>
          <p:cNvPr id="1471" name="" descr=""/>
          <p:cNvPicPr/>
          <p:nvPr/>
        </p:nvPicPr>
        <p:blipFill>
          <a:blip r:embed="rId3"/>
          <a:stretch/>
        </p:blipFill>
        <p:spPr>
          <a:xfrm>
            <a:off x="839880" y="4241880"/>
            <a:ext cx="3124080" cy="1920960"/>
          </a:xfrm>
          <a:prstGeom prst="rect">
            <a:avLst/>
          </a:prstGeom>
          <a:ln w="0">
            <a:noFill/>
          </a:ln>
        </p:spPr>
      </p:pic>
      <p:sp>
        <p:nvSpPr>
          <p:cNvPr id="1472" name=""/>
          <p:cNvSpPr/>
          <p:nvPr/>
        </p:nvSpPr>
        <p:spPr>
          <a:xfrm>
            <a:off x="837360" y="33354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N reg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634280" y="34495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NP Low-dropout regulator (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86800" y="616284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si-PNP LDO reg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RUKTURY STABILIZATORÓW KOMPENSACYJNYCH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87520" y="112860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Dropout 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5853240" y="1546200"/>
            <a:ext cx="2714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H="1">
            <a:off x="1450800" y="1550880"/>
            <a:ext cx="14335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flipH="1">
            <a:off x="1612440" y="4233960"/>
            <a:ext cx="77796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387440" y="1090440"/>
            <a:ext cx="180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2*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BE</a:t>
            </a: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+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CE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694480" y="1101600"/>
            <a:ext cx="180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CE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1465200" y="3780000"/>
            <a:ext cx="180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BE</a:t>
            </a: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+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CE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10120" y="90504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tional Semiconducto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002, AN101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719360" y="3290760"/>
            <a:ext cx="12747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066000" y="3381480"/>
            <a:ext cx="12747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752480" y="5970600"/>
            <a:ext cx="12747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839600" y="2949480"/>
            <a:ext cx="50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557760" y="3027240"/>
            <a:ext cx="50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177640" y="5649840"/>
            <a:ext cx="50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0" name="" descr=""/>
          <p:cNvPicPr/>
          <p:nvPr/>
        </p:nvPicPr>
        <p:blipFill>
          <a:blip r:embed="rId4"/>
          <a:stretch/>
        </p:blipFill>
        <p:spPr>
          <a:xfrm>
            <a:off x="5097600" y="4132440"/>
            <a:ext cx="3281400" cy="1919160"/>
          </a:xfrm>
          <a:prstGeom prst="rect">
            <a:avLst/>
          </a:prstGeom>
          <a:ln w="0">
            <a:noFill/>
          </a:ln>
        </p:spPr>
      </p:pic>
      <p:sp>
        <p:nvSpPr>
          <p:cNvPr id="1491" name=""/>
          <p:cNvSpPr/>
          <p:nvPr/>
        </p:nvSpPr>
        <p:spPr>
          <a:xfrm>
            <a:off x="5214240" y="61308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-FET LDO reg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6284880" y="5862600"/>
            <a:ext cx="12747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710040" y="5541840"/>
            <a:ext cx="50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4" name="" descr=""/>
          <p:cNvPicPr/>
          <p:nvPr/>
        </p:nvPicPr>
        <p:blipFill>
          <a:blip r:embed="rId1"/>
          <a:stretch/>
        </p:blipFill>
        <p:spPr>
          <a:xfrm>
            <a:off x="163440" y="1373040"/>
            <a:ext cx="4229280" cy="5032440"/>
          </a:xfrm>
          <a:prstGeom prst="rect">
            <a:avLst/>
          </a:prstGeom>
          <a:ln w="0">
            <a:noFill/>
          </a:ln>
        </p:spPr>
      </p:pic>
      <p:sp>
        <p:nvSpPr>
          <p:cNvPr id="1495" name=""/>
          <p:cNvSpPr/>
          <p:nvPr/>
        </p:nvSpPr>
        <p:spPr>
          <a:xfrm>
            <a:off x="6810120" y="623556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tional Semiconducto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002, AN101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" descr=""/>
          <p:cNvPicPr/>
          <p:nvPr/>
        </p:nvPicPr>
        <p:blipFill>
          <a:blip r:embed="rId2"/>
          <a:stretch/>
        </p:blipFill>
        <p:spPr>
          <a:xfrm>
            <a:off x="4456080" y="1704960"/>
            <a:ext cx="4121280" cy="406728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" descr=""/>
          <p:cNvPicPr/>
          <p:nvPr/>
        </p:nvPicPr>
        <p:blipFill>
          <a:blip r:embed="rId1"/>
          <a:stretch/>
        </p:blipFill>
        <p:spPr>
          <a:xfrm>
            <a:off x="360360" y="262080"/>
            <a:ext cx="4149720" cy="3375000"/>
          </a:xfrm>
          <a:prstGeom prst="rect">
            <a:avLst/>
          </a:prstGeom>
          <a:ln w="0">
            <a:noFill/>
          </a:ln>
        </p:spPr>
      </p:pic>
      <p:pic>
        <p:nvPicPr>
          <p:cNvPr id="1499" name="" descr=""/>
          <p:cNvPicPr/>
          <p:nvPr/>
        </p:nvPicPr>
        <p:blipFill>
          <a:blip r:embed="rId2"/>
          <a:stretch/>
        </p:blipFill>
        <p:spPr>
          <a:xfrm>
            <a:off x="4665600" y="527040"/>
            <a:ext cx="4303800" cy="4359240"/>
          </a:xfrm>
          <a:prstGeom prst="rect">
            <a:avLst/>
          </a:prstGeom>
          <a:ln w="0">
            <a:noFill/>
          </a:ln>
        </p:spPr>
      </p:pic>
      <p:pic>
        <p:nvPicPr>
          <p:cNvPr id="1500" name="" descr=""/>
          <p:cNvPicPr/>
          <p:nvPr/>
        </p:nvPicPr>
        <p:blipFill>
          <a:blip r:embed="rId3"/>
          <a:stretch/>
        </p:blipFill>
        <p:spPr>
          <a:xfrm>
            <a:off x="4514760" y="4189320"/>
            <a:ext cx="1833480" cy="2409840"/>
          </a:xfrm>
          <a:prstGeom prst="rect">
            <a:avLst/>
          </a:prstGeom>
          <a:ln w="0">
            <a:noFill/>
          </a:ln>
        </p:spPr>
      </p:pic>
      <p:pic>
        <p:nvPicPr>
          <p:cNvPr id="1501" name="" descr=""/>
          <p:cNvPicPr/>
          <p:nvPr/>
        </p:nvPicPr>
        <p:blipFill>
          <a:blip r:embed="rId4"/>
          <a:stretch/>
        </p:blipFill>
        <p:spPr>
          <a:xfrm>
            <a:off x="450720" y="4268880"/>
            <a:ext cx="1733760" cy="2057400"/>
          </a:xfrm>
          <a:prstGeom prst="rect">
            <a:avLst/>
          </a:prstGeom>
          <a:ln w="0">
            <a:noFill/>
          </a:ln>
        </p:spPr>
      </p:pic>
      <p:pic>
        <p:nvPicPr>
          <p:cNvPr id="1502" name="" descr=""/>
          <p:cNvPicPr/>
          <p:nvPr/>
        </p:nvPicPr>
        <p:blipFill>
          <a:blip r:embed="rId5"/>
          <a:stretch/>
        </p:blipFill>
        <p:spPr>
          <a:xfrm>
            <a:off x="606600" y="4006800"/>
            <a:ext cx="1695240" cy="228600"/>
          </a:xfrm>
          <a:prstGeom prst="rect">
            <a:avLst/>
          </a:prstGeom>
          <a:ln w="0">
            <a:noFill/>
          </a:ln>
        </p:spPr>
      </p:pic>
      <p:pic>
        <p:nvPicPr>
          <p:cNvPr id="1503" name="" descr=""/>
          <p:cNvPicPr/>
          <p:nvPr/>
        </p:nvPicPr>
        <p:blipFill>
          <a:blip r:embed="rId6"/>
          <a:stretch/>
        </p:blipFill>
        <p:spPr>
          <a:xfrm>
            <a:off x="2400480" y="4799160"/>
            <a:ext cx="2106360" cy="1446120"/>
          </a:xfrm>
          <a:prstGeom prst="rect">
            <a:avLst/>
          </a:prstGeom>
          <a:ln w="0">
            <a:noFill/>
          </a:ln>
        </p:spPr>
      </p:pic>
      <p:pic>
        <p:nvPicPr>
          <p:cNvPr id="1504" name="" descr=""/>
          <p:cNvPicPr/>
          <p:nvPr/>
        </p:nvPicPr>
        <p:blipFill>
          <a:blip r:embed="rId7"/>
          <a:stretch/>
        </p:blipFill>
        <p:spPr>
          <a:xfrm>
            <a:off x="2590920" y="4481640"/>
            <a:ext cx="1780920" cy="247680"/>
          </a:xfrm>
          <a:prstGeom prst="rect">
            <a:avLst/>
          </a:prstGeom>
          <a:ln w="0">
            <a:noFill/>
          </a:ln>
        </p:spPr>
      </p:pic>
      <p:sp>
        <p:nvSpPr>
          <p:cNvPr id="1505" name=""/>
          <p:cNvSpPr/>
          <p:nvPr/>
        </p:nvSpPr>
        <p:spPr>
          <a:xfrm>
            <a:off x="6810120" y="623556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tional Semiconducto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002, AN101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6" name="" descr=""/>
          <p:cNvPicPr/>
          <p:nvPr/>
        </p:nvPicPr>
        <p:blipFill>
          <a:blip r:embed="rId1"/>
          <a:stretch/>
        </p:blipFill>
        <p:spPr>
          <a:xfrm>
            <a:off x="1317600" y="905040"/>
            <a:ext cx="5791320" cy="5219640"/>
          </a:xfrm>
          <a:prstGeom prst="rect">
            <a:avLst/>
          </a:prstGeom>
          <a:ln w="0">
            <a:noFill/>
          </a:ln>
        </p:spPr>
      </p:pic>
      <p:sp>
        <p:nvSpPr>
          <p:cNvPr id="1507" name=""/>
          <p:cNvSpPr/>
          <p:nvPr/>
        </p:nvSpPr>
        <p:spPr>
          <a:xfrm>
            <a:off x="6810120" y="623556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tional Semiconducto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002, AN101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4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0" name=""/>
          <p:cNvGrpSpPr/>
          <p:nvPr/>
        </p:nvGrpSpPr>
        <p:grpSpPr>
          <a:xfrm>
            <a:off x="1733400" y="1057320"/>
            <a:ext cx="6635880" cy="5141880"/>
            <a:chOff x="1733400" y="1057320"/>
            <a:chExt cx="6635880" cy="5141880"/>
          </a:xfrm>
        </p:grpSpPr>
        <p:grpSp>
          <p:nvGrpSpPr>
            <p:cNvPr id="1511" name=""/>
            <p:cNvGrpSpPr/>
            <p:nvPr/>
          </p:nvGrpSpPr>
          <p:grpSpPr>
            <a:xfrm>
              <a:off x="2832120" y="1057320"/>
              <a:ext cx="1706400" cy="514440"/>
              <a:chOff x="2832120" y="1057320"/>
              <a:chExt cx="1706400" cy="514440"/>
            </a:xfrm>
          </p:grpSpPr>
          <p:sp>
            <p:nvSpPr>
              <p:cNvPr id="1512" name=""/>
              <p:cNvSpPr/>
              <p:nvPr/>
            </p:nvSpPr>
            <p:spPr>
              <a:xfrm>
                <a:off x="2836800" y="1062000"/>
                <a:ext cx="1697040" cy="50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832120" y="106200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832120" y="10987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832120" y="111744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832120" y="11541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832120" y="117144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832120" y="120960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832120" y="122724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832120" y="12636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832120" y="128268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832120" y="13190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832120" y="133812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832120" y="13748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832120" y="139212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832120" y="143028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832120" y="144792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832120" y="148428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32120" y="150336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832120" y="153972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832120" y="1558800"/>
                <a:ext cx="237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15" y="8"/>
                    </a:lnTo>
                    <a:lnTo>
                      <a:pt x="15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865600" y="15638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88288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91924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93832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97504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99412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03048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04812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086280" y="15638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10356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13992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15900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19572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21480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25116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26880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306600" y="1563840"/>
                <a:ext cx="82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32424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36060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37968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41640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43548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47184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48948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527280" y="15638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54492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58128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60036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63708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65616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69252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71160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74796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76560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80196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82104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85776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87684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91320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93228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96864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98628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4024440" y="15638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041720" y="1563840"/>
                <a:ext cx="288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07844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09716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13388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15296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418932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20696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245120" y="15638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26240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29912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431784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35456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437364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441000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42764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4465800" y="15638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448308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451944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4529160" y="153504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4529160" y="15177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4529160" y="147960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529160" y="14619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4529160" y="142560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4529160" y="14065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4529160" y="137016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4529160" y="135108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4529160" y="131436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529160" y="129708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529160" y="125892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529160" y="124128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4529160" y="120492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4529160" y="11858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4529160" y="114948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529160" y="113040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4529160" y="109368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529160" y="107640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4511520" y="105732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1" y="6"/>
                    </a:moveTo>
                    <a:lnTo>
                      <a:pt x="17" y="6"/>
                    </a:lnTo>
                    <a:lnTo>
                      <a:pt x="17" y="3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6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449280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45608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443700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440064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438300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34484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32756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429084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27212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423540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421632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417996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416088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412416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410688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4070520" y="1057320"/>
                <a:ext cx="266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405144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401472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99564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95928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94020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903840" y="10573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88620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84804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83076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79404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77496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73860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71952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683160" y="10573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66552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62736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61008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57336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55428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51792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49884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46248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44484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40668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38940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35268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33360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29724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27816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24180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22272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18600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16872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313200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11292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07656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05748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02112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00204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296532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94804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2909880" y="10573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89260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285588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283680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3" name=""/>
            <p:cNvSpPr/>
            <p:nvPr/>
          </p:nvSpPr>
          <p:spPr>
            <a:xfrm>
              <a:off x="3344040" y="1093680"/>
              <a:ext cx="816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Szeregow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4" name=""/>
            <p:cNvGrpSpPr/>
            <p:nvPr/>
          </p:nvGrpSpPr>
          <p:grpSpPr>
            <a:xfrm>
              <a:off x="2819520" y="1617840"/>
              <a:ext cx="1392120" cy="1238040"/>
              <a:chOff x="2819520" y="1617840"/>
              <a:chExt cx="1392120" cy="1238040"/>
            </a:xfrm>
          </p:grpSpPr>
          <p:sp>
            <p:nvSpPr>
              <p:cNvPr id="1675" name=""/>
              <p:cNvSpPr/>
              <p:nvPr/>
            </p:nvSpPr>
            <p:spPr>
              <a:xfrm>
                <a:off x="2822400" y="1622520"/>
                <a:ext cx="1384560" cy="122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819520" y="162252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819520" y="16588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819520" y="167796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819520" y="1714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819520" y="173340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819520" y="17701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819520" y="178920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819520" y="182556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819520" y="184320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819520" y="1881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819520" y="189864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819520" y="1935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2819520" y="195408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2819520" y="19908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819520" y="200988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2819520" y="20462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2819520" y="206388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819520" y="210168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819520" y="211932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819520" y="21556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819520" y="217476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819520" y="22114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2819520" y="223056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819520" y="226692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819520" y="228456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819520" y="2322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819520" y="234000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819520" y="237636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819520" y="239544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819520" y="24321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819520" y="245124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819520" y="24876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819520" y="250524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819520" y="2543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819520" y="256068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819520" y="25970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819520" y="261612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2819520" y="2652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819520" y="267192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819520" y="27082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819520" y="272736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819520" y="27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819520" y="278136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819520" y="281772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819520" y="283680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5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2" y="6"/>
                    </a:lnTo>
                    <a:lnTo>
                      <a:pt x="2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84652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86560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901960" y="2846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919240" y="284652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95596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97504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01140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03048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06720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086280" y="284652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12264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3139920" y="284652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317664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319572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323208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25116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28788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30660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34332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3360600" y="284652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3398760" y="2846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3416400" y="284652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45276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47184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350820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52728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56400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3581280" y="284652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619440" y="2846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37080" y="284652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67344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69252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72888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74796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78468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801960" y="284652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840120" y="2846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857760" y="284652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89412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91320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94956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96864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400536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402444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06080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078440" y="284652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11480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413388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417024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189320" y="284148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3"/>
                    </a:moveTo>
                    <a:lnTo>
                      <a:pt x="0" y="9"/>
                    </a:lnTo>
                    <a:lnTo>
                      <a:pt x="11" y="9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203720" y="28224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203720" y="278604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203720" y="2768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203720" y="273060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4203720" y="271296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203720" y="267660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203720" y="2657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4203720" y="262080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4203720" y="26020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4203720" y="256536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4203720" y="2548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4203720" y="250992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4203720" y="24922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203720" y="245592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203720" y="2436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4203720" y="2400480"/>
                <a:ext cx="7920" cy="2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203720" y="23814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203720" y="234468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203720" y="23256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203720" y="228924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203720" y="22716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203720" y="223524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203720" y="22161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203720" y="217980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203720" y="21607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4203720" y="212400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4203720" y="210492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4203720" y="206856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203720" y="2050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203720" y="201456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4203720" y="19954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203720" y="195912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203720" y="19400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203720" y="190332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203720" y="18842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203720" y="184788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203720" y="1830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203720" y="179244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203720" y="17748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203720" y="173844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203720" y="17193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203720" y="168264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203720" y="166356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203720" y="162720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19400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15764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13856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10220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08312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04640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02732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399096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3973680" y="1617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393696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391788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88152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386244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82572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380700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377028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3753000" y="1617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371484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369720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366084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364176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360504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358632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3549600" y="161784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3532320" y="1617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349416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347652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344016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342108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3384720" y="161784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336564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332892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3311640" y="1617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327348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325584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21948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20040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16404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14496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10824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08916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05280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035160" y="1617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299880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297972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294336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292428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288756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286848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283212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5" name=""/>
            <p:cNvSpPr/>
            <p:nvPr/>
          </p:nvSpPr>
          <p:spPr>
            <a:xfrm>
              <a:off x="2625840" y="2887560"/>
              <a:ext cx="223020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685240" y="2919240"/>
              <a:ext cx="2070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Wzmacniacz sygnału błęd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737240" y="3348000"/>
              <a:ext cx="161280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821840" y="3173400"/>
              <a:ext cx="1373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kład próbkując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311080" y="334800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0" name=""/>
            <p:cNvGrpSpPr/>
            <p:nvPr/>
          </p:nvGrpSpPr>
          <p:grpSpPr>
            <a:xfrm>
              <a:off x="3135240" y="3282840"/>
              <a:ext cx="1058760" cy="657360"/>
              <a:chOff x="3135240" y="3282840"/>
              <a:chExt cx="1058760" cy="657360"/>
            </a:xfrm>
          </p:grpSpPr>
          <p:sp>
            <p:nvSpPr>
              <p:cNvPr id="1871" name=""/>
              <p:cNvSpPr/>
              <p:nvPr/>
            </p:nvSpPr>
            <p:spPr>
              <a:xfrm>
                <a:off x="3139920" y="3287880"/>
                <a:ext cx="1049400" cy="64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3135240" y="328788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3135240" y="33242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3135240" y="334332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3135240" y="33796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3135240" y="339732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3135240" y="34354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3135240" y="345276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3135240" y="3489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3135240" y="350820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3135240" y="35449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3135240" y="356400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135240" y="36003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135240" y="361800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135240" y="36561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3135240" y="367344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3135240" y="37101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3135240" y="372888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135240" y="3765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3135240" y="378468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3135240" y="38210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3135240" y="384012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3135240" y="387684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3135240" y="389412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3135240" y="39304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315432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3191040" y="393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320976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3246480" y="393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326556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330192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331956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335592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337500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341136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343044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3467160" y="393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48624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352260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354024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3578400" y="39304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359568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363204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5112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3687840" y="393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70692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374328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376092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3798720" y="3930480"/>
                <a:ext cx="8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381636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385272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387180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3908520" y="393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392760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396396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398160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019400" y="39304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03704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07340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409248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129200" y="393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414828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4184640" y="39304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4184640" y="3894120"/>
                <a:ext cx="93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184640" y="3876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184640" y="384012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4184640" y="38210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4184640" y="378468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184640" y="37656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184640" y="372888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184640" y="3710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4184640" y="3673440"/>
                <a:ext cx="93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184640" y="3656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184640" y="3618000"/>
                <a:ext cx="93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184640" y="36003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184640" y="356400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184640" y="35449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184640" y="350820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184640" y="3489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184640" y="3452760"/>
                <a:ext cx="93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184640" y="3435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4184640" y="3397320"/>
                <a:ext cx="93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4184640" y="33796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4184640" y="334332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4184640" y="3324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184640" y="328788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417024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13388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11480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078440" y="32828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06080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402444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00536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96864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394956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91320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89412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857760" y="32828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840120" y="32828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801960" y="32828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378468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374796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72888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69252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367344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3637080" y="32828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3619440" y="32828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3581280" y="32828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56400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352728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350820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47184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345276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416400" y="32828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398760" y="32828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360600" y="32828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34332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30660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28788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25116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23208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319572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17664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139920" y="32828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5" name=""/>
            <p:cNvSpPr/>
            <p:nvPr/>
          </p:nvSpPr>
          <p:spPr>
            <a:xfrm>
              <a:off x="2671920" y="3314880"/>
              <a:ext cx="334800" cy="295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776320" y="33512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7" name=""/>
            <p:cNvGrpSpPr/>
            <p:nvPr/>
          </p:nvGrpSpPr>
          <p:grpSpPr>
            <a:xfrm>
              <a:off x="3825720" y="2000160"/>
              <a:ext cx="2198880" cy="96840"/>
              <a:chOff x="3825720" y="2000160"/>
              <a:chExt cx="2198880" cy="96840"/>
            </a:xfrm>
          </p:grpSpPr>
          <p:sp>
            <p:nvSpPr>
              <p:cNvPr id="1998" name=""/>
              <p:cNvSpPr/>
              <p:nvPr/>
            </p:nvSpPr>
            <p:spPr>
              <a:xfrm>
                <a:off x="3825720" y="2046240"/>
                <a:ext cx="2198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927760" y="200016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0" name=""/>
            <p:cNvSpPr/>
            <p:nvPr/>
          </p:nvSpPr>
          <p:spPr>
            <a:xfrm flipH="1">
              <a:off x="2432160" y="2041560"/>
              <a:ext cx="1039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509920" y="2017800"/>
              <a:ext cx="6516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2" name=""/>
            <p:cNvGrpSpPr/>
            <p:nvPr/>
          </p:nvGrpSpPr>
          <p:grpSpPr>
            <a:xfrm>
              <a:off x="3554280" y="3440160"/>
              <a:ext cx="239760" cy="270000"/>
              <a:chOff x="3554280" y="3440160"/>
              <a:chExt cx="239760" cy="270000"/>
            </a:xfrm>
          </p:grpSpPr>
          <p:sp>
            <p:nvSpPr>
              <p:cNvPr id="2003" name=""/>
              <p:cNvSpPr/>
              <p:nvPr/>
            </p:nvSpPr>
            <p:spPr>
              <a:xfrm>
                <a:off x="3559320" y="3443400"/>
                <a:ext cx="230040" cy="26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554280" y="34434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554280" y="34624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554280" y="34815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3554280" y="34988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554280" y="3517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3554280" y="353520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3554280" y="355428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3554280" y="35733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554280" y="35910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554280" y="361008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554280" y="36273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3554280" y="364644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3554280" y="36640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3554280" y="368316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554280" y="370188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573360" y="3701880"/>
                <a:ext cx="79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591000" y="3701880"/>
                <a:ext cx="936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3610080" y="3701880"/>
                <a:ext cx="936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627360" y="3701880"/>
                <a:ext cx="97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3646440" y="3701880"/>
                <a:ext cx="97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665520" y="3701880"/>
                <a:ext cx="79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683160" y="3701880"/>
                <a:ext cx="936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701880" y="3701880"/>
                <a:ext cx="97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719520" y="3701880"/>
                <a:ext cx="936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738600" y="3701880"/>
                <a:ext cx="936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3757680" y="3701880"/>
                <a:ext cx="79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774960" y="3701880"/>
                <a:ext cx="97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784680" y="36925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784680" y="36734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3784680" y="3656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3784680" y="363708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3784680" y="361800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3784680" y="36003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784680" y="358128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784680" y="356400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3784680" y="3544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784680" y="352728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784680" y="35082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784680" y="348948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784680" y="34718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784680" y="34527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78000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76092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3743280" y="3440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3724200" y="3440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3706920" y="34401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368784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66876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651120" y="3440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632040" y="3440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61476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59568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3578400" y="34401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355932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8" name=""/>
            <p:cNvSpPr/>
            <p:nvPr/>
          </p:nvSpPr>
          <p:spPr>
            <a:xfrm>
              <a:off x="3615120" y="3471840"/>
              <a:ext cx="6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682440" y="35449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360600" y="3835440"/>
              <a:ext cx="64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1" name=""/>
            <p:cNvGrpSpPr/>
            <p:nvPr/>
          </p:nvGrpSpPr>
          <p:grpSpPr>
            <a:xfrm>
              <a:off x="3774960" y="3677760"/>
              <a:ext cx="69840" cy="87480"/>
              <a:chOff x="3774960" y="3677760"/>
              <a:chExt cx="69840" cy="87480"/>
            </a:xfrm>
          </p:grpSpPr>
          <p:sp>
            <p:nvSpPr>
              <p:cNvPr id="2062" name=""/>
              <p:cNvSpPr/>
              <p:nvPr/>
            </p:nvSpPr>
            <p:spPr>
              <a:xfrm>
                <a:off x="3774960" y="3724200"/>
                <a:ext cx="698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V="1">
                <a:off x="3807000" y="3677760"/>
                <a:ext cx="4680" cy="8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4" name=""/>
            <p:cNvSpPr/>
            <p:nvPr/>
          </p:nvSpPr>
          <p:spPr>
            <a:xfrm flipV="1">
              <a:off x="3544920" y="3825720"/>
              <a:ext cx="4680" cy="16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V="1">
              <a:off x="3811680" y="3825720"/>
              <a:ext cx="4680" cy="16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V="1">
              <a:off x="3668760" y="31687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844800" y="3591000"/>
              <a:ext cx="160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355920" y="3591000"/>
              <a:ext cx="162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flipV="1">
              <a:off x="3544920" y="3696840"/>
              <a:ext cx="1440" cy="8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668760" y="3324240"/>
              <a:ext cx="33660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H="1">
              <a:off x="3347640" y="3333600"/>
              <a:ext cx="312840" cy="49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265560" y="3573360"/>
              <a:ext cx="5868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968640" y="356400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954600" y="4226040"/>
              <a:ext cx="601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314880" y="4226040"/>
              <a:ext cx="6480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801960" y="4010040"/>
              <a:ext cx="203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343320" y="4010040"/>
              <a:ext cx="201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986280" y="4022640"/>
              <a:ext cx="468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343320" y="4022640"/>
              <a:ext cx="14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0" name=""/>
            <p:cNvGrpSpPr/>
            <p:nvPr/>
          </p:nvGrpSpPr>
          <p:grpSpPr>
            <a:xfrm>
              <a:off x="3471840" y="4206960"/>
              <a:ext cx="419040" cy="96840"/>
              <a:chOff x="3471840" y="4206960"/>
              <a:chExt cx="419040" cy="96840"/>
            </a:xfrm>
          </p:grpSpPr>
          <p:sp>
            <p:nvSpPr>
              <p:cNvPr id="2081" name=""/>
              <p:cNvSpPr/>
              <p:nvPr/>
            </p:nvSpPr>
            <p:spPr>
              <a:xfrm>
                <a:off x="3471840" y="4253040"/>
                <a:ext cx="419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794040" y="420696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3" name=""/>
            <p:cNvSpPr/>
            <p:nvPr/>
          </p:nvSpPr>
          <p:spPr>
            <a:xfrm>
              <a:off x="3343320" y="4281480"/>
              <a:ext cx="144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986280" y="4286160"/>
              <a:ext cx="4680" cy="20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H="1">
              <a:off x="3973680" y="4483080"/>
              <a:ext cx="1365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265720" y="4640400"/>
              <a:ext cx="155520" cy="407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338800" y="4478400"/>
              <a:ext cx="144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338800" y="504036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472000" y="4722840"/>
              <a:ext cx="33660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544720" y="47592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665320" y="4851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265720" y="3889440"/>
              <a:ext cx="155520" cy="414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338800" y="2041560"/>
              <a:ext cx="1440" cy="186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338800" y="4294080"/>
              <a:ext cx="14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472000" y="3976560"/>
              <a:ext cx="336600" cy="295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544720" y="40147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665320" y="4106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307120" y="5545080"/>
              <a:ext cx="58680" cy="55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307120" y="2017800"/>
              <a:ext cx="586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314880" y="4410000"/>
              <a:ext cx="648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307120" y="4456080"/>
              <a:ext cx="5868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031840" y="5573880"/>
              <a:ext cx="473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3" name=""/>
            <p:cNvGrpSpPr/>
            <p:nvPr/>
          </p:nvGrpSpPr>
          <p:grpSpPr>
            <a:xfrm>
              <a:off x="4272120" y="4611600"/>
              <a:ext cx="96840" cy="676440"/>
              <a:chOff x="4272120" y="4611600"/>
              <a:chExt cx="96840" cy="676440"/>
            </a:xfrm>
          </p:grpSpPr>
          <p:sp>
            <p:nvSpPr>
              <p:cNvPr id="2104" name=""/>
              <p:cNvSpPr/>
              <p:nvPr/>
            </p:nvSpPr>
            <p:spPr>
              <a:xfrm>
                <a:off x="4317840" y="4611600"/>
                <a:ext cx="5040" cy="67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4272120" y="46116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61"/>
                    </a:moveTo>
                    <a:lnTo>
                      <a:pt x="29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6" name=""/>
            <p:cNvGrpSpPr/>
            <p:nvPr/>
          </p:nvGrpSpPr>
          <p:grpSpPr>
            <a:xfrm>
              <a:off x="2809800" y="4611600"/>
              <a:ext cx="96840" cy="676440"/>
              <a:chOff x="2809800" y="4611600"/>
              <a:chExt cx="96840" cy="676440"/>
            </a:xfrm>
          </p:grpSpPr>
          <p:sp>
            <p:nvSpPr>
              <p:cNvPr id="2107" name=""/>
              <p:cNvSpPr/>
              <p:nvPr/>
            </p:nvSpPr>
            <p:spPr>
              <a:xfrm>
                <a:off x="2855880" y="4611600"/>
                <a:ext cx="1800" cy="67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809800" y="46116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61"/>
                    </a:moveTo>
                    <a:lnTo>
                      <a:pt x="29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9" name=""/>
            <p:cNvSpPr/>
            <p:nvPr/>
          </p:nvSpPr>
          <p:spPr>
            <a:xfrm>
              <a:off x="6037200" y="2050920"/>
              <a:ext cx="731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0" name=""/>
            <p:cNvGrpSpPr/>
            <p:nvPr/>
          </p:nvGrpSpPr>
          <p:grpSpPr>
            <a:xfrm>
              <a:off x="2031840" y="2004840"/>
              <a:ext cx="390600" cy="96840"/>
              <a:chOff x="2031840" y="2004840"/>
              <a:chExt cx="390600" cy="96840"/>
            </a:xfrm>
          </p:grpSpPr>
          <p:sp>
            <p:nvSpPr>
              <p:cNvPr id="2111" name=""/>
              <p:cNvSpPr/>
              <p:nvPr/>
            </p:nvSpPr>
            <p:spPr>
              <a:xfrm>
                <a:off x="2031840" y="2050920"/>
                <a:ext cx="3906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2327400" y="2004840"/>
                <a:ext cx="95040" cy="9684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61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3" name=""/>
            <p:cNvGrpSpPr/>
            <p:nvPr/>
          </p:nvGrpSpPr>
          <p:grpSpPr>
            <a:xfrm>
              <a:off x="1990800" y="2196720"/>
              <a:ext cx="96840" cy="3233880"/>
              <a:chOff x="1990800" y="2196720"/>
              <a:chExt cx="96840" cy="3233880"/>
            </a:xfrm>
          </p:grpSpPr>
          <p:sp>
            <p:nvSpPr>
              <p:cNvPr id="2114" name=""/>
              <p:cNvSpPr/>
              <p:nvPr/>
            </p:nvSpPr>
            <p:spPr>
              <a:xfrm flipV="1">
                <a:off x="2031840" y="2196720"/>
                <a:ext cx="5040" cy="323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1990800" y="21970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61"/>
                    </a:moveTo>
                    <a:lnTo>
                      <a:pt x="29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6" name=""/>
            <p:cNvGrpSpPr/>
            <p:nvPr/>
          </p:nvGrpSpPr>
          <p:grpSpPr>
            <a:xfrm>
              <a:off x="6705720" y="2184480"/>
              <a:ext cx="95040" cy="3232080"/>
              <a:chOff x="6705720" y="2184480"/>
              <a:chExt cx="95040" cy="3232080"/>
            </a:xfrm>
          </p:grpSpPr>
          <p:sp>
            <p:nvSpPr>
              <p:cNvPr id="2117" name=""/>
              <p:cNvSpPr/>
              <p:nvPr/>
            </p:nvSpPr>
            <p:spPr>
              <a:xfrm flipV="1">
                <a:off x="6746760" y="2184480"/>
                <a:ext cx="3240" cy="323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6705720" y="2184480"/>
                <a:ext cx="95040" cy="9684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60" y="61"/>
                    </a:moveTo>
                    <a:lnTo>
                      <a:pt x="28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9" name=""/>
            <p:cNvSpPr/>
            <p:nvPr/>
          </p:nvSpPr>
          <p:spPr>
            <a:xfrm>
              <a:off x="1986120" y="5545080"/>
              <a:ext cx="60120" cy="5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986120" y="2017800"/>
              <a:ext cx="6012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727680" y="2022480"/>
              <a:ext cx="65160" cy="60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727680" y="5545080"/>
              <a:ext cx="65160" cy="5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3" name=""/>
            <p:cNvGrpSpPr/>
            <p:nvPr/>
          </p:nvGrpSpPr>
          <p:grpSpPr>
            <a:xfrm>
              <a:off x="3494160" y="1646280"/>
              <a:ext cx="326880" cy="312840"/>
              <a:chOff x="3494160" y="1646280"/>
              <a:chExt cx="326880" cy="312840"/>
            </a:xfrm>
          </p:grpSpPr>
          <p:sp>
            <p:nvSpPr>
              <p:cNvPr id="2124" name=""/>
              <p:cNvSpPr/>
              <p:nvPr/>
            </p:nvSpPr>
            <p:spPr>
              <a:xfrm>
                <a:off x="3498840" y="1650960"/>
                <a:ext cx="317520" cy="303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3494160" y="165096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494160" y="168768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3494160" y="170496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3494160" y="1743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3494160" y="176040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494160" y="17971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3494160" y="181620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494160" y="18525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494160" y="187164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494160" y="19080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3494160" y="192564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3508200" y="194940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3527280" y="1949400"/>
                <a:ext cx="27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564000" y="19494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3581280" y="1949400"/>
                <a:ext cx="288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619440" y="1949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637080" y="1949400"/>
                <a:ext cx="2844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673440" y="194940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692520" y="1949400"/>
                <a:ext cx="27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728880" y="194940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747960" y="1949400"/>
                <a:ext cx="27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3784680" y="19494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801960" y="19400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6"/>
                    </a:moveTo>
                    <a:lnTo>
                      <a:pt x="0" y="12"/>
                    </a:lnTo>
                    <a:lnTo>
                      <a:pt x="9" y="12"/>
                    </a:lnTo>
                    <a:lnTo>
                      <a:pt x="12" y="12"/>
                    </a:lnTo>
                    <a:lnTo>
                      <a:pt x="12" y="9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9"/>
                    </a:lnTo>
                    <a:lnTo>
                      <a:pt x="9" y="9"/>
                    </a:lnTo>
                    <a:lnTo>
                      <a:pt x="9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811680" y="192240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811680" y="188424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811680" y="18669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811680" y="183024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811680" y="18111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3811680" y="177480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811680" y="175572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3811680" y="171936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811680" y="17017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811680" y="166356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811680" y="16462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3774960" y="164628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3757680" y="164628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3719520" y="164628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3701880" y="16462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3665520" y="164628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3646440" y="16462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610080" y="164628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3591000" y="164628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3554280" y="164628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3535200" y="16462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3498840" y="164628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0" name=""/>
            <p:cNvSpPr/>
            <p:nvPr/>
          </p:nvSpPr>
          <p:spPr>
            <a:xfrm>
              <a:off x="3609720" y="16826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899440" y="1324080"/>
              <a:ext cx="1540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element regulacyjn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2" name=""/>
            <p:cNvGrpSpPr/>
            <p:nvPr/>
          </p:nvGrpSpPr>
          <p:grpSpPr>
            <a:xfrm>
              <a:off x="3241800" y="4827600"/>
              <a:ext cx="215640" cy="128520"/>
              <a:chOff x="3241800" y="4827600"/>
              <a:chExt cx="215640" cy="128520"/>
            </a:xfrm>
          </p:grpSpPr>
          <p:grpSp>
            <p:nvGrpSpPr>
              <p:cNvPr id="2173" name=""/>
              <p:cNvGrpSpPr/>
              <p:nvPr/>
            </p:nvGrpSpPr>
            <p:grpSpPr>
              <a:xfrm>
                <a:off x="3241800" y="4827600"/>
                <a:ext cx="215640" cy="128520"/>
                <a:chOff x="3241800" y="4827600"/>
                <a:chExt cx="215640" cy="128520"/>
              </a:xfrm>
            </p:grpSpPr>
            <p:sp>
              <p:nvSpPr>
                <p:cNvPr id="2174" name=""/>
                <p:cNvSpPr/>
                <p:nvPr/>
              </p:nvSpPr>
              <p:spPr>
                <a:xfrm>
                  <a:off x="3241800" y="4943520"/>
                  <a:ext cx="18864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 flipV="1">
                  <a:off x="3255840" y="4842000"/>
                  <a:ext cx="87480" cy="87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3343320" y="4842000"/>
                  <a:ext cx="11412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3255840" y="4827600"/>
                  <a:ext cx="18900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8" name=""/>
              <p:cNvSpPr/>
              <p:nvPr/>
            </p:nvSpPr>
            <p:spPr>
              <a:xfrm>
                <a:off x="3444840" y="4869000"/>
                <a:ext cx="1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430440" y="4827600"/>
                <a:ext cx="1800" cy="4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0" name=""/>
            <p:cNvSpPr/>
            <p:nvPr/>
          </p:nvSpPr>
          <p:spPr>
            <a:xfrm>
              <a:off x="3343320" y="4943520"/>
              <a:ext cx="1440" cy="63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306600" y="5545080"/>
              <a:ext cx="63720" cy="55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127320" y="5877000"/>
              <a:ext cx="230364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169800" y="5908680"/>
              <a:ext cx="215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Źródło napięcia odniesieni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176640" y="6107040"/>
              <a:ext cx="21891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H="1">
              <a:off x="3039840" y="5030640"/>
              <a:ext cx="228600" cy="106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040200" y="6093000"/>
              <a:ext cx="133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471840" y="4740120"/>
              <a:ext cx="335160" cy="29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513240" y="4773600"/>
              <a:ext cx="244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2235240" y="1663560"/>
              <a:ext cx="266760" cy="29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302920" y="169704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2368080" y="1789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872320" y="1697040"/>
              <a:ext cx="26172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936760" y="172872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000120" y="1820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733400" y="3651120"/>
              <a:ext cx="3495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770120" y="36831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907640" y="3774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834240" y="3664080"/>
              <a:ext cx="4507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926400" y="36972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7062120" y="3789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544920" y="4322880"/>
              <a:ext cx="336600" cy="29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600360" y="43545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738240" y="44467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509920" y="4781520"/>
              <a:ext cx="30456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52760" y="4815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88840" y="49068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378320" y="4754520"/>
              <a:ext cx="3762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396680" y="477684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511520" y="48322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649040" y="4924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 flipV="1">
              <a:off x="3660840" y="2754000"/>
              <a:ext cx="1440" cy="414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2" name=""/>
            <p:cNvGrpSpPr/>
            <p:nvPr/>
          </p:nvGrpSpPr>
          <p:grpSpPr>
            <a:xfrm>
              <a:off x="2933640" y="2014560"/>
              <a:ext cx="892080" cy="753840"/>
              <a:chOff x="2933640" y="2014560"/>
              <a:chExt cx="892080" cy="753840"/>
            </a:xfrm>
          </p:grpSpPr>
          <p:grpSp>
            <p:nvGrpSpPr>
              <p:cNvPr id="2213" name=""/>
              <p:cNvGrpSpPr/>
              <p:nvPr/>
            </p:nvGrpSpPr>
            <p:grpSpPr>
              <a:xfrm>
                <a:off x="3481200" y="2045880"/>
                <a:ext cx="344520" cy="386280"/>
                <a:chOff x="3481200" y="2045880"/>
                <a:chExt cx="344520" cy="386280"/>
              </a:xfrm>
            </p:grpSpPr>
            <p:sp>
              <p:nvSpPr>
                <p:cNvPr id="2214" name=""/>
                <p:cNvSpPr/>
                <p:nvPr/>
              </p:nvSpPr>
              <p:spPr>
                <a:xfrm>
                  <a:off x="3522600" y="2289240"/>
                  <a:ext cx="262080" cy="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 flipH="1" flipV="1">
                  <a:off x="3481200" y="2046240"/>
                  <a:ext cx="99720" cy="2304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6" name=""/>
                <p:cNvGrpSpPr/>
                <p:nvPr/>
              </p:nvGrpSpPr>
              <p:grpSpPr>
                <a:xfrm>
                  <a:off x="3701880" y="2128320"/>
                  <a:ext cx="87480" cy="147960"/>
                  <a:chOff x="3701880" y="2128320"/>
                  <a:chExt cx="87480" cy="147960"/>
                </a:xfrm>
              </p:grpSpPr>
              <p:sp>
                <p:nvSpPr>
                  <p:cNvPr id="2217" name=""/>
                  <p:cNvSpPr/>
                  <p:nvPr/>
                </p:nvSpPr>
                <p:spPr>
                  <a:xfrm flipV="1">
                    <a:off x="3711600" y="2128320"/>
                    <a:ext cx="73080" cy="1479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>
                    <a:off x="3701880" y="2128680"/>
                    <a:ext cx="87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69">
                        <a:moveTo>
                          <a:pt x="55" y="69"/>
                        </a:moveTo>
                        <a:lnTo>
                          <a:pt x="52" y="0"/>
                        </a:lnTo>
                        <a:lnTo>
                          <a:pt x="0" y="43"/>
                        </a:lnTo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19" name=""/>
                <p:cNvSpPr/>
                <p:nvPr/>
              </p:nvSpPr>
              <p:spPr>
                <a:xfrm flipV="1">
                  <a:off x="3784680" y="2045880"/>
                  <a:ext cx="41040" cy="874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3660840" y="2289240"/>
                  <a:ext cx="1440" cy="1429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1" name=""/>
              <p:cNvSpPr/>
              <p:nvPr/>
            </p:nvSpPr>
            <p:spPr>
              <a:xfrm>
                <a:off x="3186000" y="2635200"/>
                <a:ext cx="27648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2" name=""/>
              <p:cNvGrpSpPr/>
              <p:nvPr/>
            </p:nvGrpSpPr>
            <p:grpSpPr>
              <a:xfrm>
                <a:off x="3164040" y="2455920"/>
                <a:ext cx="137880" cy="174600"/>
                <a:chOff x="3164040" y="2455920"/>
                <a:chExt cx="137880" cy="174600"/>
              </a:xfrm>
            </p:grpSpPr>
            <p:sp>
              <p:nvSpPr>
                <p:cNvPr id="2223" name=""/>
                <p:cNvSpPr/>
                <p:nvPr/>
              </p:nvSpPr>
              <p:spPr>
                <a:xfrm>
                  <a:off x="3164040" y="2455920"/>
                  <a:ext cx="137880" cy="1746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3168720" y="2487600"/>
                  <a:ext cx="133200" cy="142920"/>
                </a:xfrm>
                <a:custGeom>
                  <a:avLst/>
                  <a:gdLst/>
                  <a:ahLst/>
                  <a:rect l="l" t="t" r="r" b="b"/>
                  <a:pathLst>
                    <a:path w="84" h="90">
                      <a:moveTo>
                        <a:pt x="0" y="38"/>
                      </a:moveTo>
                      <a:lnTo>
                        <a:pt x="84" y="90"/>
                      </a:lnTo>
                      <a:lnTo>
                        <a:pt x="49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5" name=""/>
              <p:cNvSpPr/>
              <p:nvPr/>
            </p:nvSpPr>
            <p:spPr>
              <a:xfrm flipV="1">
                <a:off x="3301920" y="2414520"/>
                <a:ext cx="150840" cy="216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452760" y="2414520"/>
                <a:ext cx="1936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2960640" y="2436840"/>
                <a:ext cx="1983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 flipV="1">
                <a:off x="2960640" y="2036880"/>
                <a:ext cx="1800" cy="395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H="1">
                <a:off x="3278160" y="2754360"/>
                <a:ext cx="3729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 flipV="1">
                <a:off x="3268800" y="2634840"/>
                <a:ext cx="1440" cy="133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2933640" y="2014560"/>
                <a:ext cx="651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2535120" y="2058840"/>
              <a:ext cx="824040" cy="2368800"/>
            </a:xfrm>
            <a:custGeom>
              <a:avLst/>
              <a:gdLst/>
              <a:ahLst/>
              <a:rect l="l" t="t" r="r" b="b"/>
              <a:pathLst>
                <a:path w="519" h="1492">
                  <a:moveTo>
                    <a:pt x="0" y="0"/>
                  </a:moveTo>
                  <a:lnTo>
                    <a:pt x="0" y="1492"/>
                  </a:lnTo>
                  <a:lnTo>
                    <a:pt x="519" y="14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2460600" y="3227400"/>
              <a:ext cx="160200" cy="414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943520" y="3565440"/>
              <a:ext cx="914400" cy="178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5" name=""/>
                <p:cNvSpPr txBox="1"/>
                <p:nvPr/>
              </p:nvSpPr>
              <p:spPr>
                <a:xfrm>
                  <a:off x="6873840" y="4815000"/>
                  <a:ext cx="14954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napięcia: oznaczenie napięć i prąd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9320" y="4467240"/>
            <a:ext cx="42498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strat tranzystorów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 uwzględniać 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widywaną temperaturę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274920" y="1198440"/>
            <a:ext cx="2886120" cy="2870640"/>
            <a:chOff x="3274920" y="1198440"/>
            <a:chExt cx="2886120" cy="2870640"/>
          </a:xfrm>
        </p:grpSpPr>
        <p:sp>
          <p:nvSpPr>
            <p:cNvPr id="45" name=""/>
            <p:cNvSpPr/>
            <p:nvPr/>
          </p:nvSpPr>
          <p:spPr>
            <a:xfrm>
              <a:off x="3348000" y="2063520"/>
              <a:ext cx="30024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30440" y="21049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495240" y="22050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13560" y="2531880"/>
              <a:ext cx="128520" cy="387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76920" y="2395440"/>
              <a:ext cx="468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76920" y="2928960"/>
              <a:ext cx="180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83480" y="2536560"/>
              <a:ext cx="277560" cy="357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19120" y="26128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39720" y="268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81360" y="2239920"/>
              <a:ext cx="1463760" cy="10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81880" y="2571480"/>
              <a:ext cx="1172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abiliz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3328920" y="2351160"/>
              <a:ext cx="200160" cy="104760"/>
              <a:chOff x="3328920" y="2351160"/>
              <a:chExt cx="200160" cy="104760"/>
            </a:xfrm>
          </p:grpSpPr>
          <p:sp>
            <p:nvSpPr>
              <p:cNvPr id="57" name=""/>
              <p:cNvSpPr/>
              <p:nvPr/>
            </p:nvSpPr>
            <p:spPr>
              <a:xfrm>
                <a:off x="3328920" y="2395440"/>
                <a:ext cx="20016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430800" y="2351160"/>
                <a:ext cx="98280" cy="104760"/>
              </a:xfrm>
              <a:custGeom>
                <a:avLst/>
                <a:gdLst/>
                <a:ahLst/>
                <a:rect l="l" t="t" r="r" b="b"/>
                <a:pathLst>
                  <a:path w="62" h="66">
                    <a:moveTo>
                      <a:pt x="0" y="66"/>
                    </a:moveTo>
                    <a:lnTo>
                      <a:pt x="62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3500640" y="2395440"/>
              <a:ext cx="1936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149800" y="2351160"/>
              <a:ext cx="193680" cy="104760"/>
              <a:chOff x="5149800" y="2351160"/>
              <a:chExt cx="193680" cy="104760"/>
            </a:xfrm>
          </p:grpSpPr>
          <p:sp>
            <p:nvSpPr>
              <p:cNvPr id="61" name=""/>
              <p:cNvSpPr/>
              <p:nvPr/>
            </p:nvSpPr>
            <p:spPr>
              <a:xfrm>
                <a:off x="5149800" y="2401920"/>
                <a:ext cx="193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246640" y="235116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0" y="66"/>
                    </a:moveTo>
                    <a:lnTo>
                      <a:pt x="61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5343480" y="2395440"/>
              <a:ext cx="19872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49800" y="3100320"/>
              <a:ext cx="392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5496120" y="2466360"/>
              <a:ext cx="96840" cy="567000"/>
              <a:chOff x="5496120" y="2466360"/>
              <a:chExt cx="96840" cy="56700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5542200" y="2466360"/>
                <a:ext cx="1440" cy="56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496120" y="246672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29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3338640" y="3100320"/>
              <a:ext cx="34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3274920" y="2466360"/>
              <a:ext cx="96840" cy="567000"/>
              <a:chOff x="3274920" y="2466360"/>
              <a:chExt cx="96840" cy="567000"/>
            </a:xfrm>
          </p:grpSpPr>
          <p:sp>
            <p:nvSpPr>
              <p:cNvPr id="70" name=""/>
              <p:cNvSpPr/>
              <p:nvPr/>
            </p:nvSpPr>
            <p:spPr>
              <a:xfrm flipV="1">
                <a:off x="3316320" y="2466360"/>
                <a:ext cx="4680" cy="56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274920" y="246672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29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3283200" y="3070080"/>
              <a:ext cx="60120" cy="6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83240" y="2395440"/>
              <a:ext cx="1936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83240" y="3100320"/>
              <a:ext cx="193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76800" y="2049480"/>
              <a:ext cx="30024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59240" y="20844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24040" y="2184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48000" y="2617560"/>
              <a:ext cx="3002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88320" y="26874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8720" y="2763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00560" y="2601720"/>
              <a:ext cx="30024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45920" y="2636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84520" y="27385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13400" y="3070080"/>
              <a:ext cx="60480" cy="6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13400" y="2365200"/>
              <a:ext cx="604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83200" y="2365200"/>
              <a:ext cx="6012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29240" y="2043000"/>
              <a:ext cx="139356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93840" y="1469880"/>
              <a:ext cx="89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-U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59960" y="3558960"/>
              <a:ext cx="179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P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str</a:t>
              </a: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=U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-U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94600" y="119844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cc0000"/>
                  </a:solidFill>
                  <a:latin typeface="Times New Roman"/>
                </a:rPr>
                <a:t>Dropout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5834160" y="3867120"/>
            <a:ext cx="488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3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616720" y="3873240"/>
            <a:ext cx="3110400" cy="2396520"/>
            <a:chOff x="5616720" y="3873240"/>
            <a:chExt cx="3110400" cy="2396520"/>
          </a:xfrm>
        </p:grpSpPr>
        <p:sp>
          <p:nvSpPr>
            <p:cNvPr id="93" name=""/>
            <p:cNvSpPr/>
            <p:nvPr/>
          </p:nvSpPr>
          <p:spPr>
            <a:xfrm flipV="1">
              <a:off x="5616720" y="3873240"/>
              <a:ext cx="0" cy="180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16720" y="5691600"/>
              <a:ext cx="306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16720" y="444204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27760" y="4454640"/>
              <a:ext cx="147168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43280" y="5142240"/>
              <a:ext cx="48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59920" y="5799240"/>
              <a:ext cx="77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15160" y="4454640"/>
              <a:ext cx="0" cy="1249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81320" y="5759640"/>
              <a:ext cx="786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576680" y="4924440"/>
            <a:ext cx="890640" cy="173160"/>
          </a:xfrm>
          <a:prstGeom prst="rightArrow">
            <a:avLst>
              <a:gd name="adj1" fmla="val 50000"/>
              <a:gd name="adj2" fmla="val 128586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"/>
          <p:cNvSpPr/>
          <p:nvPr/>
        </p:nvSpPr>
        <p:spPr>
          <a:xfrm>
            <a:off x="857880" y="905040"/>
            <a:ext cx="26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regulacj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7" name=""/>
              <p:cNvSpPr txBox="1"/>
              <p:nvPr/>
            </p:nvSpPr>
            <p:spPr>
              <a:xfrm>
                <a:off x="1441440" y="1357200"/>
                <a:ext cx="39211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38" name=""/>
          <p:cNvSpPr/>
          <p:nvPr/>
        </p:nvSpPr>
        <p:spPr>
          <a:xfrm>
            <a:off x="923040" y="245592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owane napięc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9" name=""/>
              <p:cNvSpPr txBox="1"/>
              <p:nvPr/>
            </p:nvSpPr>
            <p:spPr>
              <a:xfrm>
                <a:off x="1405080" y="3132000"/>
                <a:ext cx="590076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0" name=""/>
              <p:cNvSpPr txBox="1"/>
              <p:nvPr/>
            </p:nvSpPr>
            <p:spPr>
              <a:xfrm>
                <a:off x="2446200" y="4122720"/>
                <a:ext cx="22431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1" name=""/>
          <p:cNvSpPr/>
          <p:nvPr/>
        </p:nvSpPr>
        <p:spPr>
          <a:xfrm>
            <a:off x="1392120" y="4095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993600" y="481824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3" name=""/>
              <p:cNvSpPr txBox="1"/>
              <p:nvPr/>
            </p:nvSpPr>
            <p:spPr>
              <a:xfrm>
                <a:off x="2428920" y="5338800"/>
                <a:ext cx="15127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OC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ATOR KOMPENSACYJNY ZE WZMACNIACZEM  JEDNOTRANZYSTOROWY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PN regula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5326200" y="3548160"/>
            <a:ext cx="163440" cy="41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5405400" y="3384720"/>
            <a:ext cx="1800" cy="17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5405400" y="395460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5540400" y="363708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5616720" y="3675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5736600" y="37688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3875040" y="3156120"/>
            <a:ext cx="471600" cy="47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4192560" y="3259080"/>
            <a:ext cx="3240" cy="2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 flipH="1" flipV="1">
            <a:off x="3944880" y="3213000"/>
            <a:ext cx="238320" cy="10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5" name=""/>
          <p:cNvGrpSpPr/>
          <p:nvPr/>
        </p:nvGrpSpPr>
        <p:grpSpPr>
          <a:xfrm>
            <a:off x="4033440" y="3422520"/>
            <a:ext cx="149400" cy="98640"/>
            <a:chOff x="4033440" y="3422520"/>
            <a:chExt cx="149400" cy="98640"/>
          </a:xfrm>
        </p:grpSpPr>
        <p:sp>
          <p:nvSpPr>
            <p:cNvPr id="2256" name=""/>
            <p:cNvSpPr/>
            <p:nvPr/>
          </p:nvSpPr>
          <p:spPr>
            <a:xfrm flipH="1">
              <a:off x="4033440" y="3446640"/>
              <a:ext cx="14940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033800" y="3422520"/>
              <a:ext cx="115920" cy="986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41" y="0"/>
                  </a:moveTo>
                  <a:lnTo>
                    <a:pt x="0" y="62"/>
                  </a:lnTo>
                  <a:lnTo>
                    <a:pt x="73" y="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8" name=""/>
          <p:cNvSpPr/>
          <p:nvPr/>
        </p:nvSpPr>
        <p:spPr>
          <a:xfrm flipH="1">
            <a:off x="3944520" y="3521160"/>
            <a:ext cx="8892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4192560" y="3394080"/>
            <a:ext cx="1494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3944880" y="3562200"/>
            <a:ext cx="46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 flipV="1">
            <a:off x="3935520" y="3016080"/>
            <a:ext cx="468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 flipH="1" flipV="1">
            <a:off x="4336920" y="3393720"/>
            <a:ext cx="10540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5326200" y="2801880"/>
            <a:ext cx="1634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5405400" y="15969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5405400" y="321300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540400" y="289080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5616720" y="2927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5736600" y="30211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3052800" y="1765440"/>
            <a:ext cx="158760" cy="42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3132000" y="1606680"/>
            <a:ext cx="18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32000" y="217656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262320" y="185436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327480" y="1895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3449160" y="1989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1941480" y="4454640"/>
            <a:ext cx="488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3711600" y="152244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3812760" y="1844640"/>
            <a:ext cx="266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V="1">
            <a:off x="4019400" y="1596960"/>
            <a:ext cx="10188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flipH="1" flipV="1">
            <a:off x="3771720" y="1596960"/>
            <a:ext cx="11556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940200" y="184464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H="1">
            <a:off x="1931760" y="1596960"/>
            <a:ext cx="18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 flipV="1">
            <a:off x="4130640" y="1591920"/>
            <a:ext cx="27511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 flipV="1">
            <a:off x="3940200" y="1989000"/>
            <a:ext cx="1440" cy="105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3127320" y="2367000"/>
            <a:ext cx="822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3916440" y="4425840"/>
            <a:ext cx="6516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78400" y="4435560"/>
            <a:ext cx="6048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378400" y="33750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369040" y="156384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3094200" y="15638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829560" y="1568520"/>
            <a:ext cx="6480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911760" y="2340000"/>
            <a:ext cx="6012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895400" y="4425840"/>
            <a:ext cx="6516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1895400" y="1563840"/>
            <a:ext cx="6516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4" name=""/>
          <p:cNvGrpSpPr/>
          <p:nvPr/>
        </p:nvGrpSpPr>
        <p:grpSpPr>
          <a:xfrm>
            <a:off x="5410080" y="3394080"/>
            <a:ext cx="793800" cy="9360"/>
            <a:chOff x="5410080" y="3394080"/>
            <a:chExt cx="793800" cy="9360"/>
          </a:xfrm>
        </p:grpSpPr>
        <p:sp>
          <p:nvSpPr>
            <p:cNvPr id="2295" name=""/>
            <p:cNvSpPr/>
            <p:nvPr/>
          </p:nvSpPr>
          <p:spPr>
            <a:xfrm>
              <a:off x="541008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42916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44824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4658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48496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50404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52276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54040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5594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57856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59764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616720" y="339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63400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6530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67216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691240" y="339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70852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72760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74668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76576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78340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8024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82120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84028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85792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87700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8960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1516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934240" y="339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95152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97060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9896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6008760" y="339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02604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04512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06420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083280" y="339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10092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11964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13872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15780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617544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19452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8" name=""/>
          <p:cNvSpPr/>
          <p:nvPr/>
        </p:nvSpPr>
        <p:spPr>
          <a:xfrm>
            <a:off x="6829560" y="4425840"/>
            <a:ext cx="6012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9" name=""/>
          <p:cNvGrpSpPr/>
          <p:nvPr/>
        </p:nvGrpSpPr>
        <p:grpSpPr>
          <a:xfrm>
            <a:off x="6013440" y="3506760"/>
            <a:ext cx="96840" cy="844560"/>
            <a:chOff x="6013440" y="3506760"/>
            <a:chExt cx="96840" cy="844560"/>
          </a:xfrm>
        </p:grpSpPr>
        <p:sp>
          <p:nvSpPr>
            <p:cNvPr id="2340" name=""/>
            <p:cNvSpPr/>
            <p:nvPr/>
          </p:nvSpPr>
          <p:spPr>
            <a:xfrm>
              <a:off x="6059520" y="3506760"/>
              <a:ext cx="468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013440" y="3506760"/>
              <a:ext cx="9684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2" name=""/>
          <p:cNvGrpSpPr/>
          <p:nvPr/>
        </p:nvGrpSpPr>
        <p:grpSpPr>
          <a:xfrm>
            <a:off x="6802560" y="1755720"/>
            <a:ext cx="96840" cy="2511360"/>
            <a:chOff x="6802560" y="1755720"/>
            <a:chExt cx="96840" cy="2511360"/>
          </a:xfrm>
        </p:grpSpPr>
        <p:sp>
          <p:nvSpPr>
            <p:cNvPr id="2343" name=""/>
            <p:cNvSpPr/>
            <p:nvPr/>
          </p:nvSpPr>
          <p:spPr>
            <a:xfrm>
              <a:off x="6848640" y="17557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802560" y="1755720"/>
              <a:ext cx="96840" cy="986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1886040" y="1755720"/>
            <a:ext cx="98280" cy="2511360"/>
            <a:chOff x="1886040" y="1755720"/>
            <a:chExt cx="98280" cy="2511360"/>
          </a:xfrm>
        </p:grpSpPr>
        <p:sp>
          <p:nvSpPr>
            <p:cNvPr id="2346" name=""/>
            <p:cNvSpPr/>
            <p:nvPr/>
          </p:nvSpPr>
          <p:spPr>
            <a:xfrm>
              <a:off x="1932120" y="17557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1886040" y="175572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8" name=""/>
          <p:cNvSpPr/>
          <p:nvPr/>
        </p:nvSpPr>
        <p:spPr>
          <a:xfrm>
            <a:off x="3841920" y="4221000"/>
            <a:ext cx="191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flipV="1">
            <a:off x="3860640" y="4117680"/>
            <a:ext cx="6984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3860640" y="4103640"/>
            <a:ext cx="18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4046400" y="4146480"/>
            <a:ext cx="18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4046400" y="4108320"/>
            <a:ext cx="180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3406680" y="4002120"/>
            <a:ext cx="3412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3449160" y="403380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6119640" y="3726000"/>
            <a:ext cx="3826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6139440" y="374976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254280" y="3805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395400" y="389880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3944880" y="4221000"/>
            <a:ext cx="4680" cy="2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0" name=""/>
          <p:cNvGrpSpPr/>
          <p:nvPr/>
        </p:nvGrpSpPr>
        <p:grpSpPr>
          <a:xfrm>
            <a:off x="3940200" y="3894120"/>
            <a:ext cx="644400" cy="14400"/>
            <a:chOff x="3940200" y="3894120"/>
            <a:chExt cx="644400" cy="14400"/>
          </a:xfrm>
        </p:grpSpPr>
        <p:sp>
          <p:nvSpPr>
            <p:cNvPr id="2361" name=""/>
            <p:cNvSpPr/>
            <p:nvPr/>
          </p:nvSpPr>
          <p:spPr>
            <a:xfrm>
              <a:off x="394020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3959280" y="38941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97656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399564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01472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033800" y="38941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05144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07052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08924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108320" y="38941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12596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14504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16412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18320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20048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21956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23864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25772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427500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29408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431316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33224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351320" y="3898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36896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38768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40676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425840" y="3898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44348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46256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48164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50072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51800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53708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55616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57524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6" name=""/>
          <p:cNvGrpSpPr/>
          <p:nvPr/>
        </p:nvGrpSpPr>
        <p:grpSpPr>
          <a:xfrm>
            <a:off x="4187880" y="1765440"/>
            <a:ext cx="171360" cy="303120"/>
            <a:chOff x="4187880" y="1765440"/>
            <a:chExt cx="171360" cy="303120"/>
          </a:xfrm>
        </p:grpSpPr>
        <p:sp>
          <p:nvSpPr>
            <p:cNvPr id="2397" name=""/>
            <p:cNvSpPr/>
            <p:nvPr/>
          </p:nvSpPr>
          <p:spPr>
            <a:xfrm flipV="1">
              <a:off x="4187880" y="1765440"/>
              <a:ext cx="17136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187880" y="1955880"/>
              <a:ext cx="8712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3" y="0"/>
                  </a:moveTo>
                  <a:lnTo>
                    <a:pt x="0" y="71"/>
                  </a:lnTo>
                  <a:lnTo>
                    <a:pt x="55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9" name=""/>
          <p:cNvGrpSpPr/>
          <p:nvPr/>
        </p:nvGrpSpPr>
        <p:grpSpPr>
          <a:xfrm>
            <a:off x="4452840" y="4014720"/>
            <a:ext cx="98640" cy="355680"/>
            <a:chOff x="4452840" y="4014720"/>
            <a:chExt cx="98640" cy="355680"/>
          </a:xfrm>
        </p:grpSpPr>
        <p:sp>
          <p:nvSpPr>
            <p:cNvPr id="2400" name=""/>
            <p:cNvSpPr/>
            <p:nvPr/>
          </p:nvSpPr>
          <p:spPr>
            <a:xfrm>
              <a:off x="4500720" y="4014720"/>
              <a:ext cx="144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452840" y="4014720"/>
              <a:ext cx="9864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30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2" name=""/>
          <p:cNvSpPr/>
          <p:nvPr/>
        </p:nvSpPr>
        <p:spPr>
          <a:xfrm>
            <a:off x="1554120" y="2936880"/>
            <a:ext cx="3780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1604520" y="29703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1745640" y="30621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383000" y="1863720"/>
            <a:ext cx="4302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4411440" y="18954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4550760" y="1989000"/>
            <a:ext cx="22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4589640" y="4048200"/>
            <a:ext cx="3394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4644720" y="40813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4784400" y="4173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6923160" y="2922480"/>
            <a:ext cx="4111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6987960" y="2955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7127280" y="3049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3772080" y="1200240"/>
            <a:ext cx="3412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850920" y="123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958560" y="13255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3478320" y="3287880"/>
            <a:ext cx="3394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3562200" y="3319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3668040" y="34131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H="1" flipV="1">
            <a:off x="3954240" y="4117680"/>
            <a:ext cx="7452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1" name=""/>
          <p:cNvGrpSpPr/>
          <p:nvPr/>
        </p:nvGrpSpPr>
        <p:grpSpPr>
          <a:xfrm>
            <a:off x="3995640" y="1676160"/>
            <a:ext cx="98640" cy="144360"/>
            <a:chOff x="3995640" y="1676160"/>
            <a:chExt cx="98640" cy="144360"/>
          </a:xfrm>
        </p:grpSpPr>
        <p:sp>
          <p:nvSpPr>
            <p:cNvPr id="2422" name=""/>
            <p:cNvSpPr/>
            <p:nvPr/>
          </p:nvSpPr>
          <p:spPr>
            <a:xfrm flipV="1">
              <a:off x="4019400" y="1676160"/>
              <a:ext cx="698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3995640" y="1676520"/>
              <a:ext cx="9864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282600" y="4600440"/>
                <a:ext cx="428004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563400" y="5870520"/>
                <a:ext cx="30578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426" name=""/>
          <p:cNvGrpSpPr/>
          <p:nvPr/>
        </p:nvGrpSpPr>
        <p:grpSpPr>
          <a:xfrm>
            <a:off x="4440240" y="2687760"/>
            <a:ext cx="76320" cy="304560"/>
            <a:chOff x="4440240" y="2687760"/>
            <a:chExt cx="76320" cy="304560"/>
          </a:xfrm>
        </p:grpSpPr>
        <p:sp>
          <p:nvSpPr>
            <p:cNvPr id="2427" name=""/>
            <p:cNvSpPr/>
            <p:nvPr/>
          </p:nvSpPr>
          <p:spPr>
            <a:xfrm>
              <a:off x="4440240" y="26877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4516560" y="26877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9" name=""/>
          <p:cNvSpPr/>
          <p:nvPr/>
        </p:nvSpPr>
        <p:spPr>
          <a:xfrm>
            <a:off x="3933720" y="282240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4514760" y="28288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4753080" y="2819520"/>
            <a:ext cx="0" cy="55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3914640" y="278136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4724280" y="3362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4419000" y="2389320"/>
            <a:ext cx="347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4083120" y="3451320"/>
            <a:ext cx="43344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4431960" y="3530520"/>
            <a:ext cx="535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 rot="27600">
            <a:off x="1160640" y="4500360"/>
            <a:ext cx="1974600" cy="9763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8" name=""/>
          <p:cNvGrpSpPr/>
          <p:nvPr/>
        </p:nvGrpSpPr>
        <p:grpSpPr>
          <a:xfrm>
            <a:off x="4849920" y="4654440"/>
            <a:ext cx="3975120" cy="1334880"/>
            <a:chOff x="4849920" y="4654440"/>
            <a:chExt cx="3975120" cy="1334880"/>
          </a:xfrm>
        </p:grpSpPr>
        <mc:AlternateContent>
          <mc:Choice xmlns:a14="http://schemas.microsoft.com/office/drawing/2010/main" Requires="a14">
            <p:sp>
              <p:nvSpPr>
                <p:cNvPr id="2439" name=""/>
                <p:cNvSpPr txBox="1"/>
                <p:nvPr/>
              </p:nvSpPr>
              <p:spPr>
                <a:xfrm>
                  <a:off x="4989960" y="4778280"/>
                  <a:ext cx="85248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40" name=""/>
            <p:cNvSpPr/>
            <p:nvPr/>
          </p:nvSpPr>
          <p:spPr>
            <a:xfrm>
              <a:off x="5364360" y="4809960"/>
              <a:ext cx="346068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zmocnienie 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ako wzmacniacz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ądu stałeg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4849920" y="4654440"/>
              <a:ext cx="3265560" cy="133488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2" name=""/>
          <p:cNvSpPr/>
          <p:nvPr/>
        </p:nvSpPr>
        <p:spPr>
          <a:xfrm>
            <a:off x="4345200" y="6056280"/>
            <a:ext cx="23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dużego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2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 flipH="1">
            <a:off x="3935520" y="631044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2238480" y="3699000"/>
            <a:ext cx="1844640" cy="792000"/>
          </a:xfrm>
          <a:custGeom>
            <a:avLst/>
            <a:gdLst/>
            <a:ahLst/>
            <a:rect l="l" t="t" r="r" b="b"/>
            <a:pathLst>
              <a:path w="1123" h="398">
                <a:moveTo>
                  <a:pt x="0" y="398"/>
                </a:moveTo>
                <a:cubicBezTo>
                  <a:pt x="156" y="275"/>
                  <a:pt x="312" y="152"/>
                  <a:pt x="499" y="86"/>
                </a:cubicBezTo>
                <a:cubicBezTo>
                  <a:pt x="686" y="20"/>
                  <a:pt x="904" y="10"/>
                  <a:pt x="1123" y="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160200" y="4267080"/>
            <a:ext cx="3216240" cy="153540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1460520" y="2498760"/>
            <a:ext cx="2374920" cy="1770120"/>
          </a:xfrm>
          <a:custGeom>
            <a:avLst/>
            <a:gdLst/>
            <a:ahLst/>
            <a:rect l="l" t="t" r="r" b="b"/>
            <a:pathLst>
              <a:path w="1496" h="1115">
                <a:moveTo>
                  <a:pt x="0" y="1115"/>
                </a:moveTo>
                <a:cubicBezTo>
                  <a:pt x="125" y="904"/>
                  <a:pt x="251" y="694"/>
                  <a:pt x="366" y="546"/>
                </a:cubicBezTo>
                <a:cubicBezTo>
                  <a:pt x="481" y="398"/>
                  <a:pt x="505" y="317"/>
                  <a:pt x="693" y="226"/>
                </a:cubicBezTo>
                <a:cubicBezTo>
                  <a:pt x="881" y="135"/>
                  <a:pt x="1188" y="67"/>
                  <a:pt x="1496" y="0"/>
                </a:cubicBezTo>
              </a:path>
            </a:pathLst>
          </a:custGeom>
          <a:noFill/>
          <a:ln w="1260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KOMPENSACYJNY ZE WZMACNIACZEM  OPERACYJNY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PN regul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6054840" y="4124160"/>
            <a:ext cx="183960" cy="47160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6143760" y="3940200"/>
            <a:ext cx="1440" cy="200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6143760" y="4584600"/>
            <a:ext cx="1440" cy="565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6297480" y="4226040"/>
            <a:ext cx="38592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6381360" y="4267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6519600" y="43736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 flipH="1" flipV="1">
            <a:off x="5179680" y="3987720"/>
            <a:ext cx="9478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6054840" y="3279600"/>
            <a:ext cx="183960" cy="4748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6143760" y="1914480"/>
            <a:ext cx="1440" cy="1381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143760" y="3745080"/>
            <a:ext cx="1440" cy="231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6297480" y="3379680"/>
            <a:ext cx="38592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6381360" y="3421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519600" y="35272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573880" y="2846520"/>
            <a:ext cx="17928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259080" y="2224080"/>
            <a:ext cx="38592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1763640" y="5167440"/>
            <a:ext cx="5533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3767040" y="1847880"/>
            <a:ext cx="538200" cy="5335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 flipH="1">
            <a:off x="3882960" y="2212920"/>
            <a:ext cx="3016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 flipV="1">
            <a:off x="4114800" y="1932120"/>
            <a:ext cx="117360" cy="264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 flipH="1" flipV="1">
            <a:off x="3835440" y="1932120"/>
            <a:ext cx="131760" cy="264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4025880" y="2212920"/>
            <a:ext cx="1440" cy="163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1752480" y="1932120"/>
            <a:ext cx="2082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 flipV="1">
            <a:off x="4241880" y="1927080"/>
            <a:ext cx="311472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 flipV="1">
            <a:off x="4025880" y="2376000"/>
            <a:ext cx="1440" cy="1189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5603760" y="5135400"/>
            <a:ext cx="74880" cy="637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6111720" y="5129280"/>
            <a:ext cx="6984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6111720" y="3929040"/>
            <a:ext cx="69840" cy="6840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6102360" y="1878120"/>
            <a:ext cx="73080" cy="680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5640480" y="1905120"/>
            <a:ext cx="68040" cy="680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7297560" y="1900080"/>
            <a:ext cx="7488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1709640" y="5135400"/>
            <a:ext cx="74880" cy="637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1709640" y="1895400"/>
            <a:ext cx="74880" cy="6840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0" name=""/>
          <p:cNvGrpSpPr/>
          <p:nvPr/>
        </p:nvGrpSpPr>
        <p:grpSpPr>
          <a:xfrm>
            <a:off x="6149880" y="3949560"/>
            <a:ext cx="898560" cy="11160"/>
            <a:chOff x="6149880" y="3949560"/>
            <a:chExt cx="898560" cy="11160"/>
          </a:xfrm>
        </p:grpSpPr>
        <p:sp>
          <p:nvSpPr>
            <p:cNvPr id="2481" name=""/>
            <p:cNvSpPr/>
            <p:nvPr/>
          </p:nvSpPr>
          <p:spPr>
            <a:xfrm>
              <a:off x="61498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1704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619128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62132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23412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2546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2769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2974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3180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34032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63608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3817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4022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64245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64450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64656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648792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65084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65293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55164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5721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65926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61500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6355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65640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67836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69924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7197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7420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7626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7831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8054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8259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8468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86880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8896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9102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9307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9530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97392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9944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70167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0372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4" name=""/>
          <p:cNvSpPr/>
          <p:nvPr/>
        </p:nvSpPr>
        <p:spPr>
          <a:xfrm>
            <a:off x="7297560" y="5135400"/>
            <a:ext cx="68400" cy="637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5" name=""/>
          <p:cNvGrpSpPr/>
          <p:nvPr/>
        </p:nvGrpSpPr>
        <p:grpSpPr>
          <a:xfrm>
            <a:off x="6831000" y="4076640"/>
            <a:ext cx="110880" cy="957240"/>
            <a:chOff x="6831000" y="4076640"/>
            <a:chExt cx="110880" cy="957240"/>
          </a:xfrm>
        </p:grpSpPr>
        <p:sp>
          <p:nvSpPr>
            <p:cNvPr id="2526" name=""/>
            <p:cNvSpPr/>
            <p:nvPr/>
          </p:nvSpPr>
          <p:spPr>
            <a:xfrm>
              <a:off x="6883200" y="4076640"/>
              <a:ext cx="6480" cy="9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831000" y="407664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8" name=""/>
          <p:cNvGrpSpPr/>
          <p:nvPr/>
        </p:nvGrpSpPr>
        <p:grpSpPr>
          <a:xfrm>
            <a:off x="7265880" y="2112840"/>
            <a:ext cx="111240" cy="2843280"/>
            <a:chOff x="7265880" y="2112840"/>
            <a:chExt cx="111240" cy="2843280"/>
          </a:xfrm>
        </p:grpSpPr>
        <p:sp>
          <p:nvSpPr>
            <p:cNvPr id="2529" name=""/>
            <p:cNvSpPr/>
            <p:nvPr/>
          </p:nvSpPr>
          <p:spPr>
            <a:xfrm>
              <a:off x="7318440" y="2112840"/>
              <a:ext cx="1440" cy="284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265880" y="211284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1" name=""/>
          <p:cNvGrpSpPr/>
          <p:nvPr/>
        </p:nvGrpSpPr>
        <p:grpSpPr>
          <a:xfrm>
            <a:off x="1700280" y="2112840"/>
            <a:ext cx="110880" cy="2843280"/>
            <a:chOff x="1700280" y="2112840"/>
            <a:chExt cx="110880" cy="2843280"/>
          </a:xfrm>
        </p:grpSpPr>
        <p:sp>
          <p:nvSpPr>
            <p:cNvPr id="2532" name=""/>
            <p:cNvSpPr/>
            <p:nvPr/>
          </p:nvSpPr>
          <p:spPr>
            <a:xfrm>
              <a:off x="1752480" y="2112840"/>
              <a:ext cx="1800" cy="284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1700280" y="2112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4" name=""/>
          <p:cNvSpPr/>
          <p:nvPr/>
        </p:nvSpPr>
        <p:spPr>
          <a:xfrm>
            <a:off x="5519880" y="4903920"/>
            <a:ext cx="2156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 flipV="1">
            <a:off x="5540400" y="4788000"/>
            <a:ext cx="79200" cy="100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5540400" y="4772160"/>
            <a:ext cx="2109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5751360" y="4819680"/>
            <a:ext cx="180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5751360" y="4776840"/>
            <a:ext cx="1800" cy="522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5027760" y="4654440"/>
            <a:ext cx="385560" cy="33984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5075280" y="469260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6953400" y="4325760"/>
            <a:ext cx="433080" cy="401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6973560" y="435276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7105680" y="4416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7264080" y="45212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5635800" y="4903920"/>
            <a:ext cx="468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6" name=""/>
          <p:cNvGrpSpPr/>
          <p:nvPr/>
        </p:nvGrpSpPr>
        <p:grpSpPr>
          <a:xfrm>
            <a:off x="4305240" y="2122200"/>
            <a:ext cx="195480" cy="344880"/>
            <a:chOff x="4305240" y="2122200"/>
            <a:chExt cx="195480" cy="344880"/>
          </a:xfrm>
        </p:grpSpPr>
        <p:sp>
          <p:nvSpPr>
            <p:cNvPr id="2547" name=""/>
            <p:cNvSpPr/>
            <p:nvPr/>
          </p:nvSpPr>
          <p:spPr>
            <a:xfrm flipV="1">
              <a:off x="4305240" y="2122200"/>
              <a:ext cx="195480" cy="344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305240" y="2340000"/>
              <a:ext cx="101520" cy="12708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4" y="0"/>
                  </a:moveTo>
                  <a:lnTo>
                    <a:pt x="0" y="80"/>
                  </a:lnTo>
                  <a:lnTo>
                    <a:pt x="64" y="3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9" name=""/>
          <p:cNvGrpSpPr/>
          <p:nvPr/>
        </p:nvGrpSpPr>
        <p:grpSpPr>
          <a:xfrm>
            <a:off x="5783400" y="4641840"/>
            <a:ext cx="110880" cy="401760"/>
            <a:chOff x="5783400" y="4641840"/>
            <a:chExt cx="110880" cy="401760"/>
          </a:xfrm>
        </p:grpSpPr>
        <p:sp>
          <p:nvSpPr>
            <p:cNvPr id="2550" name=""/>
            <p:cNvSpPr/>
            <p:nvPr/>
          </p:nvSpPr>
          <p:spPr>
            <a:xfrm>
              <a:off x="5835600" y="4641840"/>
              <a:ext cx="1080" cy="401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783400" y="4641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2" name=""/>
          <p:cNvSpPr/>
          <p:nvPr/>
        </p:nvSpPr>
        <p:spPr>
          <a:xfrm>
            <a:off x="1324080" y="3449520"/>
            <a:ext cx="428400" cy="3225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1427040" y="3486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1541160" y="35924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527720" y="2233440"/>
            <a:ext cx="485640" cy="3225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603680" y="227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4763880" y="2376360"/>
            <a:ext cx="241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365880" y="4708440"/>
            <a:ext cx="385920" cy="31752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5886360" y="4782960"/>
            <a:ext cx="5479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402680" y="3433680"/>
            <a:ext cx="466560" cy="32220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521480" y="34704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7635600" y="35766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3835440" y="1482840"/>
            <a:ext cx="385560" cy="32220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3970800" y="1521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4082400" y="16257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 flipH="1" flipV="1">
            <a:off x="5646600" y="4788000"/>
            <a:ext cx="84240" cy="100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7" name=""/>
          <p:cNvGrpSpPr/>
          <p:nvPr/>
        </p:nvGrpSpPr>
        <p:grpSpPr>
          <a:xfrm>
            <a:off x="4089240" y="2022480"/>
            <a:ext cx="111240" cy="163440"/>
            <a:chOff x="4089240" y="2022480"/>
            <a:chExt cx="111240" cy="163440"/>
          </a:xfrm>
        </p:grpSpPr>
        <p:sp>
          <p:nvSpPr>
            <p:cNvPr id="2568" name=""/>
            <p:cNvSpPr/>
            <p:nvPr/>
          </p:nvSpPr>
          <p:spPr>
            <a:xfrm flipV="1">
              <a:off x="4114800" y="2022480"/>
              <a:ext cx="79200" cy="163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089240" y="2022480"/>
              <a:ext cx="111240" cy="131760"/>
            </a:xfrm>
            <a:custGeom>
              <a:avLst/>
              <a:gdLst/>
              <a:ahLst/>
              <a:rect l="l" t="t" r="r" b="b"/>
              <a:pathLst>
                <a:path w="70" h="83">
                  <a:moveTo>
                    <a:pt x="70" y="83"/>
                  </a:moveTo>
                  <a:lnTo>
                    <a:pt x="66" y="0"/>
                  </a:lnTo>
                  <a:lnTo>
                    <a:pt x="0" y="5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0" name=""/>
          <p:cNvSpPr/>
          <p:nvPr/>
        </p:nvSpPr>
        <p:spPr>
          <a:xfrm>
            <a:off x="4375080" y="3792600"/>
            <a:ext cx="811440" cy="722160"/>
          </a:xfrm>
          <a:custGeom>
            <a:avLst/>
            <a:gdLst/>
            <a:ahLst/>
            <a:rect l="l" t="t" r="r" b="b"/>
            <a:pathLst>
              <a:path w="400" h="455">
                <a:moveTo>
                  <a:pt x="400" y="0"/>
                </a:moveTo>
                <a:lnTo>
                  <a:pt x="400" y="455"/>
                </a:lnTo>
                <a:lnTo>
                  <a:pt x="0" y="255"/>
                </a:lnTo>
                <a:lnTo>
                  <a:pt x="40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 flipV="1">
            <a:off x="5648400" y="333324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 flipH="1">
            <a:off x="5181120" y="438156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3930480" y="3575160"/>
            <a:ext cx="184320" cy="4744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029120" y="404820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4038480" y="421020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957560" y="3781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929120" y="4176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 flipV="1">
            <a:off x="5657760" y="1924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5611680" y="4343400"/>
            <a:ext cx="68400" cy="6840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3344040" y="3595680"/>
            <a:ext cx="44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986720" y="2862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762800" y="397656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3" name=""/>
              <p:cNvSpPr txBox="1"/>
              <p:nvPr/>
            </p:nvSpPr>
            <p:spPr>
              <a:xfrm>
                <a:off x="2671920" y="5446800"/>
                <a:ext cx="30384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JAKO WZMACNIACZ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3016080" y="2714760"/>
            <a:ext cx="1498680" cy="1287360"/>
          </a:xfrm>
          <a:custGeom>
            <a:avLst/>
            <a:gdLst/>
            <a:ahLst/>
            <a:rect l="l" t="t" r="r" b="b"/>
            <a:pathLst>
              <a:path w="944" h="811">
                <a:moveTo>
                  <a:pt x="0" y="0"/>
                </a:moveTo>
                <a:lnTo>
                  <a:pt x="0" y="811"/>
                </a:lnTo>
                <a:lnTo>
                  <a:pt x="944" y="411"/>
                </a:lnTo>
                <a:lnTo>
                  <a:pt x="0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3121200" y="1779480"/>
            <a:ext cx="847440" cy="211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1562040" y="1790640"/>
            <a:ext cx="847800" cy="211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3968640" y="190332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4903920" y="190332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flipH="1">
            <a:off x="4514400" y="338472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416320" y="1903320"/>
            <a:ext cx="72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 flipH="1">
            <a:off x="2839680" y="303048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flipV="1">
            <a:off x="2820960" y="1903320"/>
            <a:ext cx="0" cy="112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2309760" y="4583160"/>
            <a:ext cx="600120" cy="5652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 flipV="1">
            <a:off x="2610000" y="4706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 flipH="1">
            <a:off x="2644560" y="3666960"/>
            <a:ext cx="37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2627280" y="3666960"/>
            <a:ext cx="0" cy="91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2610000" y="514836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2503440" y="5483160"/>
            <a:ext cx="28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 flipH="1">
            <a:off x="1287360" y="1920960"/>
            <a:ext cx="2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1270080" y="1779480"/>
            <a:ext cx="0" cy="317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2763720" y="187020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4869000" y="3346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3445920" y="313200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3048120" y="27576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3047400" y="3467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3075480" y="452592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5954760" y="2990880"/>
                <a:ext cx="2411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9" name=""/>
          <p:cNvSpPr/>
          <p:nvPr/>
        </p:nvSpPr>
        <p:spPr>
          <a:xfrm>
            <a:off x="1484640" y="11397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3329280" y="1204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1528920" y="5834160"/>
            <a:ext cx="61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jemne sprzężenie zwrotne jest bardzo siln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JAKO WZMACNIACZ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3" name=""/>
          <p:cNvGrpSpPr/>
          <p:nvPr/>
        </p:nvGrpSpPr>
        <p:grpSpPr>
          <a:xfrm>
            <a:off x="252360" y="1139760"/>
            <a:ext cx="8113680" cy="4532400"/>
            <a:chOff x="252360" y="1139760"/>
            <a:chExt cx="8113680" cy="4532400"/>
          </a:xfrm>
        </p:grpSpPr>
        <p:sp>
          <p:nvSpPr>
            <p:cNvPr id="2614" name=""/>
            <p:cNvSpPr/>
            <p:nvPr/>
          </p:nvSpPr>
          <p:spPr>
            <a:xfrm>
              <a:off x="3016080" y="2714760"/>
              <a:ext cx="1498680" cy="1287360"/>
            </a:xfrm>
            <a:custGeom>
              <a:avLst/>
              <a:gdLst/>
              <a:ahLst/>
              <a:rect l="l" t="t" r="r" b="b"/>
              <a:pathLst>
                <a:path w="944" h="811">
                  <a:moveTo>
                    <a:pt x="0" y="0"/>
                  </a:moveTo>
                  <a:lnTo>
                    <a:pt x="0" y="811"/>
                  </a:lnTo>
                  <a:lnTo>
                    <a:pt x="944" y="41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121200" y="1779480"/>
              <a:ext cx="847440" cy="2113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1562040" y="1790640"/>
              <a:ext cx="847800" cy="2113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968640" y="190332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903920" y="1903320"/>
              <a:ext cx="0" cy="14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 flipH="1">
              <a:off x="4514400" y="3384720"/>
              <a:ext cx="11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416320" y="1903320"/>
              <a:ext cx="72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 flipH="1">
              <a:off x="2839680" y="3030480"/>
              <a:ext cx="17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 flipV="1">
              <a:off x="2820960" y="1903320"/>
              <a:ext cx="0" cy="1128960"/>
            </a:xfrm>
            <a:prstGeom prst="line">
              <a:avLst/>
            </a:prstGeom>
            <a:ln w="38160">
              <a:solidFill>
                <a:srgbClr val="c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309760" y="4583160"/>
              <a:ext cx="600120" cy="56520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 flipV="1">
              <a:off x="2610000" y="4706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 flipH="1">
              <a:off x="2644560" y="3666960"/>
              <a:ext cx="37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627280" y="3666960"/>
              <a:ext cx="0" cy="9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610000" y="514836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503440" y="5483160"/>
              <a:ext cx="282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 flipH="1">
              <a:off x="1287360" y="192096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270080" y="1779480"/>
              <a:ext cx="0" cy="31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763720" y="187020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4869000" y="33465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445920" y="313200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048120" y="27576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047400" y="3467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3075480" y="452592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7" name=""/>
                <p:cNvSpPr txBox="1"/>
                <p:nvPr/>
              </p:nvSpPr>
              <p:spPr>
                <a:xfrm>
                  <a:off x="5954760" y="2990880"/>
                  <a:ext cx="241128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Y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38" name=""/>
            <p:cNvSpPr/>
            <p:nvPr/>
          </p:nvSpPr>
          <p:spPr>
            <a:xfrm>
              <a:off x="1484640" y="11397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3329280" y="12049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0" name="" descr=""/>
            <p:cNvPicPr/>
            <p:nvPr/>
          </p:nvPicPr>
          <p:blipFill>
            <a:blip r:embed="rId1"/>
            <a:stretch/>
          </p:blipFill>
          <p:spPr>
            <a:xfrm>
              <a:off x="252360" y="3193920"/>
              <a:ext cx="190044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1" name=""/>
            <p:cNvSpPr/>
            <p:nvPr/>
          </p:nvSpPr>
          <p:spPr>
            <a:xfrm>
              <a:off x="1429560" y="265428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ff"/>
                  </a:solidFill>
                  <a:latin typeface="Times New Roman"/>
                </a:rPr>
                <a:t>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368360" y="208584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ff"/>
                  </a:solidFill>
                  <a:latin typeface="Times New Roman"/>
                </a:rPr>
                <a:t>feedb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V="1">
              <a:off x="2475000" y="1979280"/>
              <a:ext cx="22212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387520" y="2970360"/>
              <a:ext cx="37152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2709720" y="2017800"/>
              <a:ext cx="2210040" cy="1282680"/>
            </a:xfrm>
            <a:custGeom>
              <a:avLst/>
              <a:gdLst/>
              <a:ahLst/>
              <a:rect l="l" t="t" r="r" b="b"/>
              <a:pathLst>
                <a:path w="1392" h="808">
                  <a:moveTo>
                    <a:pt x="85" y="747"/>
                  </a:moveTo>
                  <a:cubicBezTo>
                    <a:pt x="318" y="777"/>
                    <a:pt x="552" y="808"/>
                    <a:pt x="755" y="786"/>
                  </a:cubicBezTo>
                  <a:cubicBezTo>
                    <a:pt x="958" y="764"/>
                    <a:pt x="1210" y="717"/>
                    <a:pt x="1301" y="615"/>
                  </a:cubicBezTo>
                  <a:cubicBezTo>
                    <a:pt x="1392" y="513"/>
                    <a:pt x="1365" y="270"/>
                    <a:pt x="1301" y="171"/>
                  </a:cubicBezTo>
                  <a:cubicBezTo>
                    <a:pt x="1237" y="72"/>
                    <a:pt x="1086" y="46"/>
                    <a:pt x="919" y="23"/>
                  </a:cubicBezTo>
                  <a:cubicBezTo>
                    <a:pt x="752" y="0"/>
                    <a:pt x="449" y="23"/>
                    <a:pt x="296" y="30"/>
                  </a:cubicBezTo>
                  <a:cubicBezTo>
                    <a:pt x="143" y="37"/>
                    <a:pt x="49" y="55"/>
                    <a:pt x="0" y="6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662200" y="2251080"/>
              <a:ext cx="297000" cy="235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 flipH="1">
              <a:off x="2671920" y="2249640"/>
              <a:ext cx="234720" cy="2966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8" name="" descr=""/>
          <p:cNvPicPr/>
          <p:nvPr/>
        </p:nvPicPr>
        <p:blipFill>
          <a:blip r:embed="rId1"/>
          <a:srcRect l="18652" t="24828" r="0" b="14416"/>
          <a:stretch/>
        </p:blipFill>
        <p:spPr>
          <a:xfrm>
            <a:off x="4284720" y="1533600"/>
            <a:ext cx="4292640" cy="3247920"/>
          </a:xfrm>
          <a:prstGeom prst="rect">
            <a:avLst/>
          </a:prstGeom>
          <a:ln w="0">
            <a:noFill/>
          </a:ln>
        </p:spPr>
      </p:pic>
      <p:pic>
        <p:nvPicPr>
          <p:cNvPr id="2649" name="" descr=""/>
          <p:cNvPicPr/>
          <p:nvPr/>
        </p:nvPicPr>
        <p:blipFill>
          <a:blip r:embed="rId2"/>
          <a:stretch/>
        </p:blipFill>
        <p:spPr>
          <a:xfrm>
            <a:off x="766800" y="1467000"/>
            <a:ext cx="2512800" cy="3303360"/>
          </a:xfrm>
          <a:prstGeom prst="rect">
            <a:avLst/>
          </a:prstGeom>
          <a:ln w="0">
            <a:noFill/>
          </a:ln>
        </p:spPr>
      </p:pic>
      <p:sp>
        <p:nvSpPr>
          <p:cNvPr id="2650" name=""/>
          <p:cNvSpPr/>
          <p:nvPr/>
        </p:nvSpPr>
        <p:spPr>
          <a:xfrm>
            <a:off x="6810120" y="623556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tional Semiconducto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002, AN101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JAKO WZMACNIACZ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2048040" y="987480"/>
            <a:ext cx="106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8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9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60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1" name=""/>
              <p:cNvSpPr txBox="1"/>
              <p:nvPr/>
            </p:nvSpPr>
            <p:spPr>
              <a:xfrm>
                <a:off x="2171880" y="1876320"/>
                <a:ext cx="13125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2" name="" descr=""/>
          <p:cNvPicPr/>
          <p:nvPr/>
        </p:nvPicPr>
        <p:blipFill>
          <a:blip r:embed="rId1"/>
          <a:stretch/>
        </p:blipFill>
        <p:spPr>
          <a:xfrm>
            <a:off x="1317600" y="905040"/>
            <a:ext cx="579132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o małym napięciu wyjściowym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5326200" y="3319560"/>
            <a:ext cx="163440" cy="41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5405400" y="3156120"/>
            <a:ext cx="1800" cy="17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 flipH="1">
            <a:off x="5398920" y="3726000"/>
            <a:ext cx="6480" cy="11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5540400" y="340848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5659200" y="344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5763600" y="3540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3875040" y="2927520"/>
            <a:ext cx="471600" cy="47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4192560" y="3030480"/>
            <a:ext cx="3240" cy="2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 flipH="1" flipV="1">
            <a:off x="3944880" y="2984400"/>
            <a:ext cx="238320" cy="10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3" name=""/>
          <p:cNvGrpSpPr/>
          <p:nvPr/>
        </p:nvGrpSpPr>
        <p:grpSpPr>
          <a:xfrm>
            <a:off x="4033440" y="3193920"/>
            <a:ext cx="149400" cy="98640"/>
            <a:chOff x="4033440" y="3193920"/>
            <a:chExt cx="149400" cy="98640"/>
          </a:xfrm>
        </p:grpSpPr>
        <p:sp>
          <p:nvSpPr>
            <p:cNvPr id="2694" name=""/>
            <p:cNvSpPr/>
            <p:nvPr/>
          </p:nvSpPr>
          <p:spPr>
            <a:xfrm flipH="1">
              <a:off x="4033440" y="3218040"/>
              <a:ext cx="14940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033800" y="3193920"/>
              <a:ext cx="115920" cy="986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41" y="0"/>
                  </a:moveTo>
                  <a:lnTo>
                    <a:pt x="0" y="62"/>
                  </a:lnTo>
                  <a:lnTo>
                    <a:pt x="73" y="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6" name=""/>
          <p:cNvSpPr/>
          <p:nvPr/>
        </p:nvSpPr>
        <p:spPr>
          <a:xfrm flipH="1">
            <a:off x="3944520" y="3292560"/>
            <a:ext cx="8892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4192560" y="3165480"/>
            <a:ext cx="1494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3944880" y="3333600"/>
            <a:ext cx="46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 flipV="1">
            <a:off x="3935520" y="2787480"/>
            <a:ext cx="468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 flipH="1" flipV="1">
            <a:off x="4336920" y="3165120"/>
            <a:ext cx="10540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5326200" y="2573280"/>
            <a:ext cx="1634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5405400" y="13683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5405400" y="298440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5540400" y="266220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5659200" y="2698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5763600" y="27925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3052800" y="1536840"/>
            <a:ext cx="158760" cy="42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3132000" y="1378080"/>
            <a:ext cx="18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3132000" y="194796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3262320" y="162576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3369960" y="1666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3475440" y="17604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1941480" y="4226040"/>
            <a:ext cx="488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3711600" y="129384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 flipH="1">
            <a:off x="3812760" y="1616040"/>
            <a:ext cx="266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 flipV="1">
            <a:off x="4019400" y="1368360"/>
            <a:ext cx="10188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 flipH="1" flipV="1">
            <a:off x="3771720" y="1368360"/>
            <a:ext cx="11556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3940200" y="161604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 flipH="1">
            <a:off x="1931760" y="1368360"/>
            <a:ext cx="18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 flipV="1">
            <a:off x="4130640" y="1363320"/>
            <a:ext cx="27511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 flipV="1">
            <a:off x="3940200" y="1760400"/>
            <a:ext cx="1440" cy="105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3127320" y="2138400"/>
            <a:ext cx="822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5378400" y="31464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5369040" y="133524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3094200" y="13352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6829560" y="1339920"/>
            <a:ext cx="6480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3911760" y="2111400"/>
            <a:ext cx="6012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1895400" y="4197240"/>
            <a:ext cx="6516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1895400" y="1335240"/>
            <a:ext cx="6516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0" name=""/>
          <p:cNvGrpSpPr/>
          <p:nvPr/>
        </p:nvGrpSpPr>
        <p:grpSpPr>
          <a:xfrm>
            <a:off x="5410080" y="3165480"/>
            <a:ext cx="793800" cy="9360"/>
            <a:chOff x="5410080" y="3165480"/>
            <a:chExt cx="793800" cy="9360"/>
          </a:xfrm>
        </p:grpSpPr>
        <p:sp>
          <p:nvSpPr>
            <p:cNvPr id="2731" name=""/>
            <p:cNvSpPr/>
            <p:nvPr/>
          </p:nvSpPr>
          <p:spPr>
            <a:xfrm>
              <a:off x="54100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4291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4482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4658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4849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5040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5227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5404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5594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5785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55976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561672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6340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6530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6721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69124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7085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57276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57466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57657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57834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8024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8212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58402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8579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58770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58960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9151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93424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9515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9706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9896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00876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0260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0451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0642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608328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1009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61196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1387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61578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61754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61945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4" name=""/>
          <p:cNvSpPr/>
          <p:nvPr/>
        </p:nvSpPr>
        <p:spPr>
          <a:xfrm>
            <a:off x="6829560" y="4197240"/>
            <a:ext cx="6012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5" name=""/>
          <p:cNvGrpSpPr/>
          <p:nvPr/>
        </p:nvGrpSpPr>
        <p:grpSpPr>
          <a:xfrm>
            <a:off x="6802560" y="1527120"/>
            <a:ext cx="96840" cy="2511360"/>
            <a:chOff x="6802560" y="1527120"/>
            <a:chExt cx="96840" cy="2511360"/>
          </a:xfrm>
        </p:grpSpPr>
        <p:sp>
          <p:nvSpPr>
            <p:cNvPr id="2776" name=""/>
            <p:cNvSpPr/>
            <p:nvPr/>
          </p:nvSpPr>
          <p:spPr>
            <a:xfrm>
              <a:off x="6848640" y="15271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802560" y="1527120"/>
              <a:ext cx="96840" cy="986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8" name=""/>
          <p:cNvGrpSpPr/>
          <p:nvPr/>
        </p:nvGrpSpPr>
        <p:grpSpPr>
          <a:xfrm>
            <a:off x="1886040" y="1527120"/>
            <a:ext cx="98280" cy="2511360"/>
            <a:chOff x="1886040" y="1527120"/>
            <a:chExt cx="98280" cy="2511360"/>
          </a:xfrm>
        </p:grpSpPr>
        <p:sp>
          <p:nvSpPr>
            <p:cNvPr id="2779" name=""/>
            <p:cNvSpPr/>
            <p:nvPr/>
          </p:nvSpPr>
          <p:spPr>
            <a:xfrm>
              <a:off x="1932120" y="15271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1886040" y="152712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1" name=""/>
          <p:cNvSpPr/>
          <p:nvPr/>
        </p:nvSpPr>
        <p:spPr>
          <a:xfrm>
            <a:off x="3841920" y="3992400"/>
            <a:ext cx="191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 flipV="1">
            <a:off x="3860640" y="3889080"/>
            <a:ext cx="6984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860640" y="3875040"/>
            <a:ext cx="18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046400" y="3917880"/>
            <a:ext cx="18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4046400" y="3879720"/>
            <a:ext cx="180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3406680" y="3773520"/>
            <a:ext cx="3412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3492720" y="380520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6119640" y="3497400"/>
            <a:ext cx="3826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6213960" y="352116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6254640" y="3576600"/>
            <a:ext cx="10335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i="1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i="1" lang="pl-P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1" name=""/>
          <p:cNvGrpSpPr/>
          <p:nvPr/>
        </p:nvGrpSpPr>
        <p:grpSpPr>
          <a:xfrm>
            <a:off x="3940200" y="3665520"/>
            <a:ext cx="644400" cy="14400"/>
            <a:chOff x="3940200" y="3665520"/>
            <a:chExt cx="644400" cy="14400"/>
          </a:xfrm>
        </p:grpSpPr>
        <p:sp>
          <p:nvSpPr>
            <p:cNvPr id="2792" name=""/>
            <p:cNvSpPr/>
            <p:nvPr/>
          </p:nvSpPr>
          <p:spPr>
            <a:xfrm>
              <a:off x="394020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395928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397656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399564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01472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03380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0514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0705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08924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10832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12596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1450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1641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18320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20048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21956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2386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2577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27500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29408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31316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33224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351320" y="3670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3689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38768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40676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425840" y="3670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44348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4625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48164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50072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51800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53708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5561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57524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7" name=""/>
          <p:cNvGrpSpPr/>
          <p:nvPr/>
        </p:nvGrpSpPr>
        <p:grpSpPr>
          <a:xfrm>
            <a:off x="4187880" y="1536840"/>
            <a:ext cx="171360" cy="303120"/>
            <a:chOff x="4187880" y="1536840"/>
            <a:chExt cx="171360" cy="303120"/>
          </a:xfrm>
        </p:grpSpPr>
        <p:sp>
          <p:nvSpPr>
            <p:cNvPr id="2828" name=""/>
            <p:cNvSpPr/>
            <p:nvPr/>
          </p:nvSpPr>
          <p:spPr>
            <a:xfrm flipV="1">
              <a:off x="4187880" y="1536840"/>
              <a:ext cx="17136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187880" y="1727280"/>
              <a:ext cx="8712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3" y="0"/>
                  </a:moveTo>
                  <a:lnTo>
                    <a:pt x="0" y="71"/>
                  </a:lnTo>
                  <a:lnTo>
                    <a:pt x="55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0" name=""/>
          <p:cNvSpPr/>
          <p:nvPr/>
        </p:nvSpPr>
        <p:spPr>
          <a:xfrm>
            <a:off x="1554120" y="2708280"/>
            <a:ext cx="3780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1648080" y="27417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1745640" y="2833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4383000" y="1635120"/>
            <a:ext cx="4302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4455000" y="1666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4579200" y="1760400"/>
            <a:ext cx="22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4589640" y="3819600"/>
            <a:ext cx="3394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4317480" y="4348080"/>
            <a:ext cx="2124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6923160" y="2693880"/>
            <a:ext cx="4111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7031520" y="27273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7127280" y="2820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3772080" y="971640"/>
            <a:ext cx="3412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3893040" y="1004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3985560" y="1096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3478320" y="3059280"/>
            <a:ext cx="3394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603960" y="3090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3695040" y="3184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 flipH="1" flipV="1">
            <a:off x="3954240" y="3889080"/>
            <a:ext cx="7452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8" name=""/>
          <p:cNvGrpSpPr/>
          <p:nvPr/>
        </p:nvGrpSpPr>
        <p:grpSpPr>
          <a:xfrm>
            <a:off x="3995640" y="1447560"/>
            <a:ext cx="98640" cy="144360"/>
            <a:chOff x="3995640" y="1447560"/>
            <a:chExt cx="98640" cy="144360"/>
          </a:xfrm>
        </p:grpSpPr>
        <p:sp>
          <p:nvSpPr>
            <p:cNvPr id="2849" name=""/>
            <p:cNvSpPr/>
            <p:nvPr/>
          </p:nvSpPr>
          <p:spPr>
            <a:xfrm flipV="1">
              <a:off x="4019400" y="1447560"/>
              <a:ext cx="698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995640" y="1447920"/>
              <a:ext cx="9864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1" name=""/>
          <p:cNvSpPr/>
          <p:nvPr/>
        </p:nvSpPr>
        <p:spPr>
          <a:xfrm>
            <a:off x="3943440" y="399096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2790720" y="4362480"/>
            <a:ext cx="371520" cy="3524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 flipV="1">
            <a:off x="2981160" y="444816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2971800" y="42195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2971800" y="471492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2971800" y="4848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2951280" y="42116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3913200" y="48020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2297520" y="4376880"/>
            <a:ext cx="46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cc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 flipV="1">
            <a:off x="5962680" y="3285720"/>
            <a:ext cx="0" cy="146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 flipV="1">
            <a:off x="4257720" y="3703680"/>
            <a:ext cx="0" cy="10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3063960" y="5110200"/>
            <a:ext cx="273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e wyjś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2260440" y="5656320"/>
                <a:ext cx="45561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o małym napięciu wyjściowym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3121200" y="5472000"/>
                <a:ext cx="260028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66" name=""/>
          <p:cNvGrpSpPr/>
          <p:nvPr/>
        </p:nvGrpSpPr>
        <p:grpSpPr>
          <a:xfrm>
            <a:off x="567360" y="1180800"/>
            <a:ext cx="6966000" cy="4264200"/>
            <a:chOff x="567360" y="1180800"/>
            <a:chExt cx="6966000" cy="4264200"/>
          </a:xfrm>
        </p:grpSpPr>
        <p:sp>
          <p:nvSpPr>
            <p:cNvPr id="2867" name=""/>
            <p:cNvSpPr/>
            <p:nvPr/>
          </p:nvSpPr>
          <p:spPr>
            <a:xfrm flipH="1">
              <a:off x="1285560" y="1973160"/>
              <a:ext cx="11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8" name=""/>
            <p:cNvGrpSpPr/>
            <p:nvPr/>
          </p:nvGrpSpPr>
          <p:grpSpPr>
            <a:xfrm>
              <a:off x="5648400" y="2147760"/>
              <a:ext cx="547560" cy="495360"/>
              <a:chOff x="5648400" y="2147760"/>
              <a:chExt cx="547560" cy="495360"/>
            </a:xfrm>
          </p:grpSpPr>
          <p:sp>
            <p:nvSpPr>
              <p:cNvPr id="2869" name=""/>
              <p:cNvSpPr/>
              <p:nvPr/>
            </p:nvSpPr>
            <p:spPr>
              <a:xfrm flipV="1">
                <a:off x="5648400" y="2147760"/>
                <a:ext cx="547560" cy="495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5922360" y="2287080"/>
                <a:ext cx="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1" name=""/>
            <p:cNvSpPr/>
            <p:nvPr/>
          </p:nvSpPr>
          <p:spPr>
            <a:xfrm flipH="1">
              <a:off x="2627280" y="355932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4781520" y="191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3" name=""/>
            <p:cNvGrpSpPr/>
            <p:nvPr/>
          </p:nvGrpSpPr>
          <p:grpSpPr>
            <a:xfrm>
              <a:off x="3015720" y="2909880"/>
              <a:ext cx="1498680" cy="1287360"/>
              <a:chOff x="3015720" y="2909880"/>
              <a:chExt cx="1498680" cy="1287360"/>
            </a:xfrm>
          </p:grpSpPr>
          <p:sp>
            <p:nvSpPr>
              <p:cNvPr id="2874" name=""/>
              <p:cNvSpPr/>
              <p:nvPr/>
            </p:nvSpPr>
            <p:spPr>
              <a:xfrm flipH="1">
                <a:off x="3015360" y="2909880"/>
                <a:ext cx="1498680" cy="1287360"/>
              </a:xfrm>
              <a:custGeom>
                <a:avLst/>
                <a:gdLst/>
                <a:ahLst/>
                <a:rect l="l" t="t" r="r" b="b"/>
                <a:pathLst>
                  <a:path w="944" h="811">
                    <a:moveTo>
                      <a:pt x="0" y="0"/>
                    </a:moveTo>
                    <a:lnTo>
                      <a:pt x="0" y="811"/>
                    </a:lnTo>
                    <a:lnTo>
                      <a:pt x="944" y="41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flipH="1">
                <a:off x="3494520" y="3376440"/>
                <a:ext cx="415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flipH="1">
                <a:off x="3079800" y="30524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H="1">
                <a:off x="3074400" y="371160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8" name=""/>
            <p:cNvSpPr/>
            <p:nvPr/>
          </p:nvSpPr>
          <p:spPr>
            <a:xfrm>
              <a:off x="6284160" y="2157480"/>
              <a:ext cx="455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 flipV="1">
              <a:off x="5964120" y="3574800"/>
              <a:ext cx="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5981760" y="51642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840280" y="5445000"/>
              <a:ext cx="31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 rot="16200000">
              <a:off x="5931000" y="38746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5190840" y="48150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5256000" y="297036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5" name=""/>
            <p:cNvGrpSpPr/>
            <p:nvPr/>
          </p:nvGrpSpPr>
          <p:grpSpPr>
            <a:xfrm>
              <a:off x="2368440" y="1552680"/>
              <a:ext cx="476280" cy="793800"/>
              <a:chOff x="2368440" y="1552680"/>
              <a:chExt cx="476280" cy="793800"/>
            </a:xfrm>
          </p:grpSpPr>
          <p:sp>
            <p:nvSpPr>
              <p:cNvPr id="2886" name=""/>
              <p:cNvSpPr/>
              <p:nvPr/>
            </p:nvSpPr>
            <p:spPr>
              <a:xfrm>
                <a:off x="2368440" y="1874880"/>
                <a:ext cx="476280" cy="471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H="1">
                <a:off x="2469600" y="2197080"/>
                <a:ext cx="266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2676600" y="1949400"/>
                <a:ext cx="1015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H="1" flipV="1">
                <a:off x="2428920" y="1949400"/>
                <a:ext cx="1159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2597040" y="2197080"/>
                <a:ext cx="180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2428920" y="1552680"/>
                <a:ext cx="341280" cy="28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2507760" y="15858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2615400" y="167796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4" name=""/>
              <p:cNvGrpSpPr/>
              <p:nvPr/>
            </p:nvGrpSpPr>
            <p:grpSpPr>
              <a:xfrm>
                <a:off x="2652480" y="2028600"/>
                <a:ext cx="98640" cy="144360"/>
                <a:chOff x="2652480" y="2028600"/>
                <a:chExt cx="98640" cy="144360"/>
              </a:xfrm>
            </p:grpSpPr>
            <p:sp>
              <p:nvSpPr>
                <p:cNvPr id="2895" name=""/>
                <p:cNvSpPr/>
                <p:nvPr/>
              </p:nvSpPr>
              <p:spPr>
                <a:xfrm flipV="1">
                  <a:off x="2676240" y="2028600"/>
                  <a:ext cx="6984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>
                  <a:off x="2652480" y="2028960"/>
                  <a:ext cx="98640" cy="115920"/>
                </a:xfrm>
                <a:custGeom>
                  <a:avLst/>
                  <a:gdLst/>
                  <a:ahLst/>
                  <a:rect l="l" t="t" r="r" b="b"/>
                  <a:pathLst>
                    <a:path w="62" h="73">
                      <a:moveTo>
                        <a:pt x="62" y="73"/>
                      </a:moveTo>
                      <a:lnTo>
                        <a:pt x="59" y="0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97" name=""/>
            <p:cNvSpPr/>
            <p:nvPr/>
          </p:nvSpPr>
          <p:spPr>
            <a:xfrm>
              <a:off x="2787480" y="1955880"/>
              <a:ext cx="42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>
              <a:off x="4533480" y="3913200"/>
              <a:ext cx="14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799160" y="1955880"/>
              <a:ext cx="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 flipH="1">
              <a:off x="4498920" y="3260880"/>
              <a:ext cx="30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5927760" y="195588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 flipV="1">
              <a:off x="5945040" y="262548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 rot="16200000">
              <a:off x="2324520" y="2985120"/>
              <a:ext cx="60192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 flipV="1">
              <a:off x="2629080" y="340164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 flipV="1">
              <a:off x="2593800" y="234288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 rot="16200000">
              <a:off x="5669280" y="4725000"/>
              <a:ext cx="60192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 rot="16200000">
              <a:off x="5645880" y="31658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 flipV="1">
              <a:off x="6986520" y="2112840"/>
              <a:ext cx="0" cy="329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7093800" y="30416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567360" y="17892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5896080" y="19065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2" name=""/>
            <p:cNvGrpSpPr/>
            <p:nvPr/>
          </p:nvGrpSpPr>
          <p:grpSpPr>
            <a:xfrm>
              <a:off x="3790800" y="1371600"/>
              <a:ext cx="371520" cy="343080"/>
              <a:chOff x="3790800" y="1371600"/>
              <a:chExt cx="371520" cy="343080"/>
            </a:xfrm>
          </p:grpSpPr>
          <p:sp>
            <p:nvSpPr>
              <p:cNvPr id="2913" name=""/>
              <p:cNvSpPr/>
              <p:nvPr/>
            </p:nvSpPr>
            <p:spPr>
              <a:xfrm>
                <a:off x="3790800" y="1371600"/>
                <a:ext cx="371520" cy="34308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981600" y="1428840"/>
                <a:ext cx="0" cy="2188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5" name=""/>
            <p:cNvGrpSpPr/>
            <p:nvPr/>
          </p:nvGrpSpPr>
          <p:grpSpPr>
            <a:xfrm>
              <a:off x="3790800" y="2143080"/>
              <a:ext cx="371520" cy="343080"/>
              <a:chOff x="3790800" y="2143080"/>
              <a:chExt cx="371520" cy="343080"/>
            </a:xfrm>
          </p:grpSpPr>
          <p:sp>
            <p:nvSpPr>
              <p:cNvPr id="2916" name=""/>
              <p:cNvSpPr/>
              <p:nvPr/>
            </p:nvSpPr>
            <p:spPr>
              <a:xfrm>
                <a:off x="3790800" y="2143080"/>
                <a:ext cx="371520" cy="34308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981600" y="2200320"/>
                <a:ext cx="0" cy="2188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8" name=""/>
            <p:cNvSpPr/>
            <p:nvPr/>
          </p:nvSpPr>
          <p:spPr>
            <a:xfrm>
              <a:off x="3971880" y="1714680"/>
              <a:ext cx="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943440" y="191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981600" y="2495520"/>
              <a:ext cx="0" cy="6382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971880" y="3971880"/>
              <a:ext cx="0" cy="5526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 flipH="1">
              <a:off x="1857240" y="4524480"/>
              <a:ext cx="211464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 flipV="1">
              <a:off x="1847880" y="1180800"/>
              <a:ext cx="0" cy="3352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1847880" y="1181160"/>
              <a:ext cx="21430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990960" y="1181160"/>
              <a:ext cx="0" cy="190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4222080" y="131904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4279320" y="210996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Times New Roman"/>
                </a:rPr>
                <a:t>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STABILIZATORÓW NAPIĘ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3160" y="749160"/>
            <a:ext cx="8696160" cy="300456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   nominalne (znamionowe) napięcie stabilizacj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20ma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największy prąd wyjściowy w zakresie stabilizacj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2ma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 największy prąd wyjściowy zwarciow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1min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1ma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zakres dopuszczalnych zmian napięcia wejścioweg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2  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dropout voltage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- od części wolta (tzw. LDO regulators) do kilku wolt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st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   moc strat w stabilizatorze -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łówni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tranzystorach mo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GND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prąd elektrody masowej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- ground pin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96000" y="3417840"/>
            <a:ext cx="1173960" cy="765720"/>
            <a:chOff x="396000" y="3417840"/>
            <a:chExt cx="1173960" cy="765720"/>
          </a:xfrm>
        </p:grpSpPr>
        <p:sp>
          <p:nvSpPr>
            <p:cNvPr id="105" name=""/>
            <p:cNvSpPr/>
            <p:nvPr/>
          </p:nvSpPr>
          <p:spPr>
            <a:xfrm>
              <a:off x="984240" y="3795840"/>
              <a:ext cx="585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72760" y="400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71320" y="3614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3080" y="3790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65760" y="38336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57840" y="34480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6000" y="36241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15640" y="380376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06280" y="341784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0360" y="359424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823400" y="3632040"/>
            <a:ext cx="3973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współczynnik stabilizacji napięci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95280" y="4200480"/>
            <a:ext cx="1314000" cy="765360"/>
            <a:chOff x="395280" y="4200480"/>
            <a:chExt cx="1314000" cy="765360"/>
          </a:xfrm>
        </p:grpSpPr>
        <p:sp>
          <p:nvSpPr>
            <p:cNvPr id="117" name=""/>
            <p:cNvSpPr/>
            <p:nvPr/>
          </p:nvSpPr>
          <p:spPr>
            <a:xfrm>
              <a:off x="958680" y="4578480"/>
              <a:ext cx="743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60600" y="46162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26000" y="46162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10040" y="42307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5280" y="44067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40920" y="4782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24960" y="4397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7760" y="4573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14080" y="458640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60280" y="420048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5160" y="437688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762200" y="4403880"/>
            <a:ext cx="3470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współczynnik temperaturowy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02840" y="5027760"/>
            <a:ext cx="2327760" cy="765360"/>
            <a:chOff x="402840" y="5027760"/>
            <a:chExt cx="2327760" cy="765360"/>
          </a:xfrm>
        </p:grpSpPr>
        <p:sp>
          <p:nvSpPr>
            <p:cNvPr id="130" name=""/>
            <p:cNvSpPr/>
            <p:nvPr/>
          </p:nvSpPr>
          <p:spPr>
            <a:xfrm>
              <a:off x="1154160" y="5407200"/>
              <a:ext cx="587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12840" y="5407200"/>
              <a:ext cx="58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77920" y="5041800"/>
              <a:ext cx="1800" cy="7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28800" y="5041800"/>
              <a:ext cx="1800" cy="7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41960" y="5610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02080" y="5224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84720" y="5610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43400" y="5224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7920" y="5400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9720" y="54450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87160" y="5059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81040" y="54450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29920" y="5059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2840" y="523548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96080" y="541332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37400" y="502776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98640" y="52038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38840" y="541332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78360" y="502776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80720" y="52038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1200" y="52038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790720" y="5229360"/>
            <a:ext cx="2711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rezystancja wyjściow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90960" y="5859360"/>
            <a:ext cx="1034640" cy="736920"/>
            <a:chOff x="390960" y="5859360"/>
            <a:chExt cx="1034640" cy="736920"/>
          </a:xfrm>
        </p:grpSpPr>
        <p:sp>
          <p:nvSpPr>
            <p:cNvPr id="153" name=""/>
            <p:cNvSpPr/>
            <p:nvPr/>
          </p:nvSpPr>
          <p:spPr>
            <a:xfrm>
              <a:off x="795240" y="6208560"/>
              <a:ext cx="630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18680" y="641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88640" y="641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26600" y="602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77480" y="602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22920" y="62452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83080" y="62452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22920" y="585936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64000" y="585936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3160" y="600552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0960" y="6005520"/>
              <a:ext cx="16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493280" y="6033960"/>
            <a:ext cx="2905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sprawność energetyczn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544680" y="233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A STABILIZ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CZANIE PRĄDU WYJŚC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0" name=""/>
          <p:cNvGraphicFramePr/>
          <p:nvPr/>
        </p:nvGraphicFramePr>
        <p:xfrm>
          <a:off x="1347840" y="905040"/>
          <a:ext cx="7229520" cy="62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7840" y="905040"/>
                    <a:ext cx="722952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32" name=""/>
              <p:cNvSpPr txBox="1"/>
              <p:nvPr/>
            </p:nvSpPr>
            <p:spPr>
              <a:xfrm>
                <a:off x="5245200" y="2913120"/>
                <a:ext cx="26701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»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3" name=""/>
          <p:cNvSpPr/>
          <p:nvPr/>
        </p:nvSpPr>
        <p:spPr>
          <a:xfrm>
            <a:off x="2099520" y="38512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c str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5257800" y="1386000"/>
            <a:ext cx="2981160" cy="16207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4512600" y="1476360"/>
            <a:ext cx="1483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Źródło prądo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5286240" y="3914640"/>
            <a:ext cx="2981520" cy="19177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8016840" y="2436840"/>
            <a:ext cx="457200" cy="1770120"/>
          </a:xfrm>
          <a:custGeom>
            <a:avLst/>
            <a:gdLst/>
            <a:ahLst/>
            <a:rect l="l" t="t" r="r" b="b"/>
            <a:pathLst>
              <a:path w="288" h="1115">
                <a:moveTo>
                  <a:pt x="140" y="0"/>
                </a:moveTo>
                <a:cubicBezTo>
                  <a:pt x="198" y="75"/>
                  <a:pt x="256" y="151"/>
                  <a:pt x="272" y="265"/>
                </a:cubicBezTo>
                <a:cubicBezTo>
                  <a:pt x="288" y="379"/>
                  <a:pt x="278" y="544"/>
                  <a:pt x="233" y="686"/>
                </a:cubicBezTo>
                <a:cubicBezTo>
                  <a:pt x="188" y="828"/>
                  <a:pt x="40" y="1044"/>
                  <a:pt x="0" y="1115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8" name=""/>
          <p:cNvGraphicFramePr/>
          <p:nvPr/>
        </p:nvGraphicFramePr>
        <p:xfrm>
          <a:off x="1019160" y="905040"/>
          <a:ext cx="7327800" cy="55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905040"/>
                    <a:ext cx="7327800" cy="55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BEZPIECZENIE TYPU Fold-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E WYŁĄCZAJ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 flipH="1">
            <a:off x="703440" y="1920960"/>
            <a:ext cx="20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3" name=""/>
          <p:cNvGrpSpPr/>
          <p:nvPr/>
        </p:nvGrpSpPr>
        <p:grpSpPr>
          <a:xfrm>
            <a:off x="4951440" y="4552920"/>
            <a:ext cx="547560" cy="495360"/>
            <a:chOff x="4951440" y="4552920"/>
            <a:chExt cx="547560" cy="495360"/>
          </a:xfrm>
        </p:grpSpPr>
        <p:sp>
          <p:nvSpPr>
            <p:cNvPr id="2944" name=""/>
            <p:cNvSpPr/>
            <p:nvPr/>
          </p:nvSpPr>
          <p:spPr>
            <a:xfrm>
              <a:off x="4951440" y="4552920"/>
              <a:ext cx="547560" cy="495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 flipV="1">
              <a:off x="5225400" y="466128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6" name=""/>
          <p:cNvSpPr/>
          <p:nvPr/>
        </p:nvSpPr>
        <p:spPr>
          <a:xfrm flipH="1">
            <a:off x="2997360" y="350676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 flipH="1">
            <a:off x="3394800" y="2876400"/>
            <a:ext cx="1498680" cy="1287720"/>
          </a:xfrm>
          <a:custGeom>
            <a:avLst/>
            <a:gdLst/>
            <a:ahLst/>
            <a:rect l="l" t="t" r="r" b="b"/>
            <a:pathLst>
              <a:path w="944" h="811">
                <a:moveTo>
                  <a:pt x="0" y="0"/>
                </a:moveTo>
                <a:lnTo>
                  <a:pt x="0" y="811"/>
                </a:lnTo>
                <a:lnTo>
                  <a:pt x="944" y="411"/>
                </a:lnTo>
                <a:lnTo>
                  <a:pt x="0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 flipH="1">
            <a:off x="4002480" y="329400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 flipH="1">
            <a:off x="4619880" y="3567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 flipH="1">
            <a:off x="459324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4419360" y="461808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 flipV="1">
            <a:off x="6334200" y="352224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6351480" y="5111640"/>
            <a:ext cx="0" cy="54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6208560" y="5656320"/>
            <a:ext cx="31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 rot="16200000">
            <a:off x="6300720" y="38224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5686920" y="46083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5628240" y="2868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8" name=""/>
          <p:cNvGrpSpPr/>
          <p:nvPr/>
        </p:nvGrpSpPr>
        <p:grpSpPr>
          <a:xfrm>
            <a:off x="2738520" y="1500120"/>
            <a:ext cx="476280" cy="793800"/>
            <a:chOff x="2738520" y="1500120"/>
            <a:chExt cx="476280" cy="793800"/>
          </a:xfrm>
        </p:grpSpPr>
        <p:sp>
          <p:nvSpPr>
            <p:cNvPr id="2959" name=""/>
            <p:cNvSpPr/>
            <p:nvPr/>
          </p:nvSpPr>
          <p:spPr>
            <a:xfrm>
              <a:off x="2738520" y="182232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 flipH="1">
              <a:off x="2839680" y="2144520"/>
              <a:ext cx="266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 flipV="1">
              <a:off x="3046680" y="1896840"/>
              <a:ext cx="10152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 flipH="1" flipV="1">
              <a:off x="2799000" y="1896840"/>
              <a:ext cx="11592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2967120" y="2144520"/>
              <a:ext cx="18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2799000" y="1500120"/>
              <a:ext cx="3412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2877840" y="1533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2985480" y="1625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7" name=""/>
            <p:cNvGrpSpPr/>
            <p:nvPr/>
          </p:nvGrpSpPr>
          <p:grpSpPr>
            <a:xfrm>
              <a:off x="3022560" y="1976040"/>
              <a:ext cx="98640" cy="144360"/>
              <a:chOff x="3022560" y="1976040"/>
              <a:chExt cx="98640" cy="144360"/>
            </a:xfrm>
          </p:grpSpPr>
          <p:sp>
            <p:nvSpPr>
              <p:cNvPr id="2968" name=""/>
              <p:cNvSpPr/>
              <p:nvPr/>
            </p:nvSpPr>
            <p:spPr>
              <a:xfrm flipV="1">
                <a:off x="3046320" y="1976040"/>
                <a:ext cx="6984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3022560" y="1976400"/>
                <a:ext cx="9864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0" name=""/>
          <p:cNvSpPr/>
          <p:nvPr/>
        </p:nvSpPr>
        <p:spPr>
          <a:xfrm>
            <a:off x="3157560" y="1903320"/>
            <a:ext cx="421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 flipH="1">
            <a:off x="4903560" y="3860640"/>
            <a:ext cx="14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 flipH="1">
            <a:off x="4868640" y="3208320"/>
            <a:ext cx="34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6315120" y="1896840"/>
            <a:ext cx="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 rot="16200000">
            <a:off x="2694960" y="293256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 flipV="1">
            <a:off x="2998800" y="3349800"/>
            <a:ext cx="0" cy="15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 flipV="1">
            <a:off x="2963880" y="229032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 rot="16200000">
            <a:off x="6039720" y="467244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 rot="16200000">
            <a:off x="6015960" y="311364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 flipV="1">
            <a:off x="7356600" y="2060280"/>
            <a:ext cx="0" cy="32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7473600" y="294012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222840" y="274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6265800" y="18543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 rot="10800000">
            <a:off x="1722240" y="525420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4" name=""/>
          <p:cNvGrpSpPr/>
          <p:nvPr/>
        </p:nvGrpSpPr>
        <p:grpSpPr>
          <a:xfrm>
            <a:off x="1390680" y="4349880"/>
            <a:ext cx="471600" cy="476280"/>
            <a:chOff x="1390680" y="4349880"/>
            <a:chExt cx="471600" cy="476280"/>
          </a:xfrm>
        </p:grpSpPr>
        <p:sp>
          <p:nvSpPr>
            <p:cNvPr id="2985" name=""/>
            <p:cNvSpPr/>
            <p:nvPr/>
          </p:nvSpPr>
          <p:spPr>
            <a:xfrm flipH="1" rot="16200000">
              <a:off x="1388160" y="435204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 flipV="1">
              <a:off x="1712880" y="4451040"/>
              <a:ext cx="180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 flipH="1">
              <a:off x="1464840" y="4657680"/>
              <a:ext cx="2336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 flipH="1" flipV="1">
              <a:off x="1464840" y="4410000"/>
              <a:ext cx="23364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1712880" y="4578480"/>
              <a:ext cx="144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0" name=""/>
            <p:cNvGrpSpPr/>
            <p:nvPr/>
          </p:nvGrpSpPr>
          <p:grpSpPr>
            <a:xfrm>
              <a:off x="1544400" y="4633920"/>
              <a:ext cx="144360" cy="98280"/>
              <a:chOff x="1544400" y="4633920"/>
              <a:chExt cx="144360" cy="98280"/>
            </a:xfrm>
          </p:grpSpPr>
          <p:sp>
            <p:nvSpPr>
              <p:cNvPr id="2991" name=""/>
              <p:cNvSpPr/>
              <p:nvPr/>
            </p:nvSpPr>
            <p:spPr>
              <a:xfrm flipH="1">
                <a:off x="1544400" y="4657320"/>
                <a:ext cx="144360" cy="6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H="1" rot="16200000">
                <a:off x="1553400" y="4624920"/>
                <a:ext cx="9828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3" name=""/>
          <p:cNvSpPr/>
          <p:nvPr/>
        </p:nvSpPr>
        <p:spPr>
          <a:xfrm rot="5400000">
            <a:off x="1626120" y="339300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 flipH="1" flipV="1">
            <a:off x="1774800" y="3490560"/>
            <a:ext cx="1440" cy="2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1790640" y="3697200"/>
            <a:ext cx="233280" cy="10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 flipV="1">
            <a:off x="1790640" y="3451320"/>
            <a:ext cx="23328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 flipH="1">
            <a:off x="1631520" y="361800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8" name=""/>
          <p:cNvGrpSpPr/>
          <p:nvPr/>
        </p:nvGrpSpPr>
        <p:grpSpPr>
          <a:xfrm>
            <a:off x="1819080" y="3454560"/>
            <a:ext cx="144360" cy="98280"/>
            <a:chOff x="1819080" y="3454560"/>
            <a:chExt cx="144360" cy="98280"/>
          </a:xfrm>
        </p:grpSpPr>
        <p:sp>
          <p:nvSpPr>
            <p:cNvPr id="2999" name=""/>
            <p:cNvSpPr/>
            <p:nvPr/>
          </p:nvSpPr>
          <p:spPr>
            <a:xfrm flipH="1">
              <a:off x="1819080" y="3477960"/>
              <a:ext cx="144360" cy="6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 flipV="1" rot="5400000">
              <a:off x="1828080" y="3445200"/>
              <a:ext cx="9828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1" name=""/>
          <p:cNvSpPr/>
          <p:nvPr/>
        </p:nvSpPr>
        <p:spPr>
          <a:xfrm flipV="1">
            <a:off x="1471680" y="3376440"/>
            <a:ext cx="1440" cy="10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1471680" y="3605040"/>
            <a:ext cx="162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1461960" y="4767120"/>
            <a:ext cx="180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701640" y="5362560"/>
            <a:ext cx="10080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1862280" y="4567320"/>
            <a:ext cx="666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 flipH="1">
            <a:off x="2309400" y="535788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2023920" y="3795840"/>
            <a:ext cx="1800" cy="7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 rot="16200000">
            <a:off x="2215080" y="4848840"/>
            <a:ext cx="60192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 rot="16200000">
            <a:off x="1167480" y="297216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2519280" y="456732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2509920" y="5262480"/>
            <a:ext cx="144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 flipV="1">
            <a:off x="2033640" y="2604600"/>
            <a:ext cx="1440" cy="84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 flipH="1">
            <a:off x="1461960" y="2602080"/>
            <a:ext cx="15163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1461960" y="2614680"/>
            <a:ext cx="180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 rot="16200000">
            <a:off x="2000160" y="451260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 rot="16200000">
            <a:off x="2457360" y="531324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 rot="16200000">
            <a:off x="2009880" y="257940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2489040" y="5362560"/>
            <a:ext cx="483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 rot="16200000">
            <a:off x="6313320" y="531576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 rot="16200000">
            <a:off x="1442880" y="531432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 rot="16200000">
            <a:off x="2927520" y="25714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 flipV="1">
            <a:off x="5238720" y="3209400"/>
            <a:ext cx="0" cy="13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5219640" y="504828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 rot="16200000">
            <a:off x="5180040" y="532584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 rot="16200000">
            <a:off x="1436400" y="355428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1677960" y="5394240"/>
            <a:ext cx="59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1181160" y="2425680"/>
            <a:ext cx="1562040" cy="354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8" name=""/>
          <p:cNvGrpSpPr/>
          <p:nvPr/>
        </p:nvGrpSpPr>
        <p:grpSpPr>
          <a:xfrm>
            <a:off x="430200" y="3206880"/>
            <a:ext cx="547560" cy="558720"/>
            <a:chOff x="430200" y="3206880"/>
            <a:chExt cx="547560" cy="558720"/>
          </a:xfrm>
        </p:grpSpPr>
        <p:sp>
          <p:nvSpPr>
            <p:cNvPr id="3029" name=""/>
            <p:cNvSpPr/>
            <p:nvPr/>
          </p:nvSpPr>
          <p:spPr>
            <a:xfrm>
              <a:off x="430200" y="3206880"/>
              <a:ext cx="547560" cy="5587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V="1">
              <a:off x="704160" y="33292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1" name=""/>
          <p:cNvSpPr/>
          <p:nvPr/>
        </p:nvSpPr>
        <p:spPr>
          <a:xfrm flipV="1">
            <a:off x="711360" y="1904760"/>
            <a:ext cx="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685800" y="3759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 flipH="1">
            <a:off x="901440" y="5359320"/>
            <a:ext cx="5994360" cy="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3344760" y="532440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1347840" y="6359400"/>
            <a:ext cx="134928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6" name=""/>
          <p:cNvGrpSpPr/>
          <p:nvPr/>
        </p:nvGrpSpPr>
        <p:grpSpPr>
          <a:xfrm>
            <a:off x="2912760" y="6031080"/>
            <a:ext cx="3144240" cy="523800"/>
            <a:chOff x="2912760" y="6031080"/>
            <a:chExt cx="3144240" cy="523800"/>
          </a:xfrm>
        </p:grpSpPr>
        <p:sp>
          <p:nvSpPr>
            <p:cNvPr id="3037" name=""/>
            <p:cNvSpPr/>
            <p:nvPr/>
          </p:nvSpPr>
          <p:spPr>
            <a:xfrm>
              <a:off x="2912760" y="603108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3248640" y="627840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Times New Roman"/>
                </a:rPr>
                <a:t>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3466800" y="6049800"/>
              <a:ext cx="25902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= R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CS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2 </a:t>
              </a:r>
              <a:r>
                <a:rPr b="0" lang="en-US" sz="22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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 U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BE </a:t>
              </a:r>
              <a:r>
                <a:rPr b="0" lang="en-US" sz="22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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 0,7V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E WYŁĄCZAJ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1" name=""/>
          <p:cNvGrpSpPr/>
          <p:nvPr/>
        </p:nvGrpSpPr>
        <p:grpSpPr>
          <a:xfrm>
            <a:off x="222840" y="1500120"/>
            <a:ext cx="7827840" cy="4469040"/>
            <a:chOff x="222840" y="1500120"/>
            <a:chExt cx="7827840" cy="4469040"/>
          </a:xfrm>
        </p:grpSpPr>
        <p:sp>
          <p:nvSpPr>
            <p:cNvPr id="3042" name=""/>
            <p:cNvSpPr/>
            <p:nvPr/>
          </p:nvSpPr>
          <p:spPr>
            <a:xfrm flipH="1">
              <a:off x="703440" y="1920960"/>
              <a:ext cx="20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3" name=""/>
            <p:cNvGrpSpPr/>
            <p:nvPr/>
          </p:nvGrpSpPr>
          <p:grpSpPr>
            <a:xfrm>
              <a:off x="4951440" y="4552920"/>
              <a:ext cx="547560" cy="495360"/>
              <a:chOff x="4951440" y="4552920"/>
              <a:chExt cx="547560" cy="495360"/>
            </a:xfrm>
          </p:grpSpPr>
          <p:sp>
            <p:nvSpPr>
              <p:cNvPr id="3044" name=""/>
              <p:cNvSpPr/>
              <p:nvPr/>
            </p:nvSpPr>
            <p:spPr>
              <a:xfrm>
                <a:off x="4951440" y="4552920"/>
                <a:ext cx="547560" cy="495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5225400" y="4661280"/>
                <a:ext cx="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6" name=""/>
            <p:cNvSpPr/>
            <p:nvPr/>
          </p:nvSpPr>
          <p:spPr>
            <a:xfrm flipH="1">
              <a:off x="2997360" y="350676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H="1">
              <a:off x="3394800" y="2876400"/>
              <a:ext cx="1498680" cy="1287720"/>
            </a:xfrm>
            <a:custGeom>
              <a:avLst/>
              <a:gdLst/>
              <a:ahLst/>
              <a:rect l="l" t="t" r="r" b="b"/>
              <a:pathLst>
                <a:path w="944" h="811">
                  <a:moveTo>
                    <a:pt x="0" y="0"/>
                  </a:moveTo>
                  <a:lnTo>
                    <a:pt x="0" y="811"/>
                  </a:lnTo>
                  <a:lnTo>
                    <a:pt x="944" y="41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 flipH="1">
              <a:off x="4002480" y="329400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 flipH="1">
              <a:off x="4619880" y="356724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H="1">
              <a:off x="4593240" y="2971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419360" y="461808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 flipV="1">
              <a:off x="6334200" y="3522240"/>
              <a:ext cx="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351480" y="5111640"/>
              <a:ext cx="0" cy="5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6208560" y="5656320"/>
              <a:ext cx="31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 rot="16200000">
              <a:off x="6300720" y="3822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686920" y="46083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5628240" y="28684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8" name=""/>
            <p:cNvGrpSpPr/>
            <p:nvPr/>
          </p:nvGrpSpPr>
          <p:grpSpPr>
            <a:xfrm>
              <a:off x="2738520" y="1500120"/>
              <a:ext cx="476280" cy="793800"/>
              <a:chOff x="2738520" y="1500120"/>
              <a:chExt cx="476280" cy="793800"/>
            </a:xfrm>
          </p:grpSpPr>
          <p:sp>
            <p:nvSpPr>
              <p:cNvPr id="3059" name=""/>
              <p:cNvSpPr/>
              <p:nvPr/>
            </p:nvSpPr>
            <p:spPr>
              <a:xfrm>
                <a:off x="2738520" y="1822320"/>
                <a:ext cx="476280" cy="471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H="1">
                <a:off x="2839680" y="2144520"/>
                <a:ext cx="266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3046680" y="1896840"/>
                <a:ext cx="1015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H="1" flipV="1">
                <a:off x="2799000" y="1896840"/>
                <a:ext cx="1159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967120" y="2144520"/>
                <a:ext cx="180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2799000" y="1500120"/>
                <a:ext cx="341280" cy="28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2877840" y="153324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2985480" y="1625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67" name=""/>
              <p:cNvGrpSpPr/>
              <p:nvPr/>
            </p:nvGrpSpPr>
            <p:grpSpPr>
              <a:xfrm>
                <a:off x="3022560" y="1976040"/>
                <a:ext cx="98640" cy="144360"/>
                <a:chOff x="3022560" y="1976040"/>
                <a:chExt cx="98640" cy="144360"/>
              </a:xfrm>
            </p:grpSpPr>
            <p:sp>
              <p:nvSpPr>
                <p:cNvPr id="3068" name=""/>
                <p:cNvSpPr/>
                <p:nvPr/>
              </p:nvSpPr>
              <p:spPr>
                <a:xfrm flipV="1">
                  <a:off x="3046320" y="1976040"/>
                  <a:ext cx="6984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>
                  <a:off x="3022560" y="1976400"/>
                  <a:ext cx="98640" cy="115920"/>
                </a:xfrm>
                <a:custGeom>
                  <a:avLst/>
                  <a:gdLst/>
                  <a:ahLst/>
                  <a:rect l="l" t="t" r="r" b="b"/>
                  <a:pathLst>
                    <a:path w="62" h="73">
                      <a:moveTo>
                        <a:pt x="62" y="73"/>
                      </a:moveTo>
                      <a:lnTo>
                        <a:pt x="59" y="0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70" name=""/>
            <p:cNvSpPr/>
            <p:nvPr/>
          </p:nvSpPr>
          <p:spPr>
            <a:xfrm>
              <a:off x="3157560" y="1903320"/>
              <a:ext cx="42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 flipH="1">
              <a:off x="4903560" y="3860640"/>
              <a:ext cx="14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H="1">
              <a:off x="4868640" y="320832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 flipV="1">
              <a:off x="6315120" y="1896840"/>
              <a:ext cx="0" cy="9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 rot="16200000">
              <a:off x="2694960" y="293256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V="1">
              <a:off x="2998800" y="3349800"/>
              <a:ext cx="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2963880" y="229032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 rot="16200000">
              <a:off x="6039720" y="46724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 rot="16200000">
              <a:off x="6015960" y="31136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 flipV="1">
              <a:off x="7356600" y="2060280"/>
              <a:ext cx="0" cy="32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7473600" y="294012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222840" y="27417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265800" y="1854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 rot="10800000">
              <a:off x="1722240" y="525420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455840" y="2620800"/>
              <a:ext cx="7920" cy="274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701640" y="5362560"/>
              <a:ext cx="100800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 flipH="1">
              <a:off x="2309400" y="5357880"/>
              <a:ext cx="21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509920" y="5262480"/>
              <a:ext cx="14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H="1">
              <a:off x="1461960" y="2602080"/>
              <a:ext cx="15163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 rot="16200000">
              <a:off x="2457360" y="53132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2489040" y="5362560"/>
              <a:ext cx="483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 rot="16200000">
              <a:off x="6313320" y="53157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 rot="16200000">
              <a:off x="1442880" y="531432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rot="16200000">
              <a:off x="2927520" y="2571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 flipV="1">
              <a:off x="5238720" y="3209400"/>
              <a:ext cx="0" cy="13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5219640" y="504828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 rot="16200000">
              <a:off x="5180040" y="53258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1677960" y="5394240"/>
              <a:ext cx="599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1181160" y="2425680"/>
              <a:ext cx="1562040" cy="3543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9" name=""/>
            <p:cNvGrpSpPr/>
            <p:nvPr/>
          </p:nvGrpSpPr>
          <p:grpSpPr>
            <a:xfrm>
              <a:off x="430200" y="3206880"/>
              <a:ext cx="547560" cy="558720"/>
              <a:chOff x="430200" y="3206880"/>
              <a:chExt cx="547560" cy="558720"/>
            </a:xfrm>
          </p:grpSpPr>
          <p:sp>
            <p:nvSpPr>
              <p:cNvPr id="3100" name=""/>
              <p:cNvSpPr/>
              <p:nvPr/>
            </p:nvSpPr>
            <p:spPr>
              <a:xfrm>
                <a:off x="430200" y="3206880"/>
                <a:ext cx="547560" cy="5587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flipV="1">
                <a:off x="704160" y="3329280"/>
                <a:ext cx="0" cy="27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2" name=""/>
            <p:cNvSpPr/>
            <p:nvPr/>
          </p:nvSpPr>
          <p:spPr>
            <a:xfrm flipV="1">
              <a:off x="711360" y="1904760"/>
              <a:ext cx="0" cy="13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685800" y="37591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 flipH="1">
              <a:off x="901440" y="5359320"/>
              <a:ext cx="599436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3344760" y="532440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napięcia: oznaczenie napięć i prąd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52400" y="5562720"/>
            <a:ext cx="1588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Zakres stabilizacj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04680" y="3887640"/>
            <a:ext cx="2354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53760" y="63309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34360" y="620388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406760" y="1572840"/>
            <a:ext cx="0" cy="463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919840" y="1576440"/>
            <a:ext cx="0" cy="4651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575080" y="384768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75080" y="6222960"/>
            <a:ext cx="394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55720" y="1181160"/>
            <a:ext cx="2448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45760" y="35640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77960" y="1649520"/>
            <a:ext cx="3340080" cy="1954080"/>
          </a:xfrm>
          <a:custGeom>
            <a:avLst/>
            <a:gdLst/>
            <a:ahLst/>
            <a:rect l="l" t="t" r="r" b="b"/>
            <a:pathLst>
              <a:path w="2104" h="1231">
                <a:moveTo>
                  <a:pt x="0" y="1231"/>
                </a:moveTo>
                <a:lnTo>
                  <a:pt x="998" y="70"/>
                </a:lnTo>
                <a:lnTo>
                  <a:pt x="1107" y="8"/>
                </a:lnTo>
                <a:lnTo>
                  <a:pt x="2104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0200" y="358452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590920" y="122832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3603600"/>
            <a:ext cx="394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73280" y="4354560"/>
            <a:ext cx="3376800" cy="1832040"/>
          </a:xfrm>
          <a:custGeom>
            <a:avLst/>
            <a:gdLst/>
            <a:ahLst/>
            <a:rect l="l" t="t" r="r" b="b"/>
            <a:pathLst>
              <a:path w="2127" h="1154">
                <a:moveTo>
                  <a:pt x="0" y="0"/>
                </a:moveTo>
                <a:lnTo>
                  <a:pt x="896" y="16"/>
                </a:lnTo>
                <a:lnTo>
                  <a:pt x="1036" y="31"/>
                </a:lnTo>
                <a:lnTo>
                  <a:pt x="1075" y="125"/>
                </a:lnTo>
                <a:lnTo>
                  <a:pt x="1083" y="226"/>
                </a:lnTo>
                <a:lnTo>
                  <a:pt x="1106" y="1068"/>
                </a:lnTo>
                <a:lnTo>
                  <a:pt x="1153" y="1146"/>
                </a:lnTo>
                <a:lnTo>
                  <a:pt x="2127" y="1154"/>
                </a:ln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08840" y="3986280"/>
            <a:ext cx="1245240" cy="765360"/>
            <a:chOff x="708840" y="3986280"/>
            <a:chExt cx="1245240" cy="765360"/>
          </a:xfrm>
        </p:grpSpPr>
        <p:sp>
          <p:nvSpPr>
            <p:cNvPr id="182" name=""/>
            <p:cNvSpPr/>
            <p:nvPr/>
          </p:nvSpPr>
          <p:spPr>
            <a:xfrm>
              <a:off x="1368360" y="4363920"/>
              <a:ext cx="585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14040" y="4568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12600" y="4183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1480" y="43592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74640" y="44020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66720" y="40165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8840" y="41925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96440" y="43718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86720" y="39862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92240" y="416232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405320" y="5319720"/>
            <a:ext cx="1533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203640" y="2474640"/>
            <a:ext cx="309600" cy="408240"/>
            <a:chOff x="3203640" y="2474640"/>
            <a:chExt cx="309600" cy="408240"/>
          </a:xfrm>
        </p:grpSpPr>
        <p:sp>
          <p:nvSpPr>
            <p:cNvPr id="194" name=""/>
            <p:cNvSpPr/>
            <p:nvPr/>
          </p:nvSpPr>
          <p:spPr>
            <a:xfrm>
              <a:off x="3203640" y="288288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513240" y="2474640"/>
              <a:ext cx="0" cy="4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529080" y="2082600"/>
            <a:ext cx="309600" cy="408240"/>
            <a:chOff x="3529080" y="2082600"/>
            <a:chExt cx="309600" cy="408240"/>
          </a:xfrm>
        </p:grpSpPr>
        <p:sp>
          <p:nvSpPr>
            <p:cNvPr id="197" name=""/>
            <p:cNvSpPr/>
            <p:nvPr/>
          </p:nvSpPr>
          <p:spPr>
            <a:xfrm>
              <a:off x="3529080" y="249084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838680" y="2082600"/>
              <a:ext cx="0" cy="4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638440" y="3134880"/>
            <a:ext cx="309600" cy="408240"/>
            <a:chOff x="2638440" y="3134880"/>
            <a:chExt cx="309600" cy="408240"/>
          </a:xfrm>
        </p:grpSpPr>
        <p:sp>
          <p:nvSpPr>
            <p:cNvPr id="200" name=""/>
            <p:cNvSpPr/>
            <p:nvPr/>
          </p:nvSpPr>
          <p:spPr>
            <a:xfrm>
              <a:off x="2638440" y="354312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2948040" y="3134880"/>
              <a:ext cx="0" cy="4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 flipV="1">
            <a:off x="3068640" y="2981160"/>
            <a:ext cx="271440" cy="309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975120" y="1909800"/>
            <a:ext cx="271440" cy="309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75160" y="2771640"/>
            <a:ext cx="323640" cy="1508400"/>
          </a:xfrm>
          <a:custGeom>
            <a:avLst/>
            <a:gdLst/>
            <a:ahLst/>
            <a:rect l="l" t="t" r="r" b="b"/>
            <a:pathLst>
              <a:path w="204" h="950">
                <a:moveTo>
                  <a:pt x="0" y="0"/>
                </a:moveTo>
                <a:cubicBezTo>
                  <a:pt x="93" y="88"/>
                  <a:pt x="186" y="177"/>
                  <a:pt x="195" y="335"/>
                </a:cubicBezTo>
                <a:cubicBezTo>
                  <a:pt x="204" y="493"/>
                  <a:pt x="81" y="844"/>
                  <a:pt x="55" y="9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2662200" y="923760"/>
            <a:ext cx="73080" cy="2750760"/>
            <a:chOff x="2662200" y="923760"/>
            <a:chExt cx="73080" cy="2750760"/>
          </a:xfrm>
        </p:grpSpPr>
        <p:sp>
          <p:nvSpPr>
            <p:cNvPr id="206" name=""/>
            <p:cNvSpPr/>
            <p:nvPr/>
          </p:nvSpPr>
          <p:spPr>
            <a:xfrm flipV="1">
              <a:off x="2696760" y="1003680"/>
              <a:ext cx="1080" cy="267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62200" y="923760"/>
              <a:ext cx="73080" cy="8928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61" y="67"/>
                  </a:moveTo>
                  <a:lnTo>
                    <a:pt x="29" y="0"/>
                  </a:lnTo>
                  <a:lnTo>
                    <a:pt x="0" y="67"/>
                  </a:lnTo>
                  <a:lnTo>
                    <a:pt x="6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495520" y="932040"/>
            <a:ext cx="15876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95760" y="868320"/>
            <a:ext cx="64260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11960" y="9018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68200" y="9018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700" spc="-1" strike="noStrike">
                <a:solidFill>
                  <a:srgbClr val="000000"/>
                </a:solidFill>
                <a:latin typeface="Times New Roman"/>
              </a:rPr>
              <a:t>=con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7480" y="361332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napięcia: oznaczenie napięć i prąd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99640" y="5527800"/>
            <a:ext cx="1588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Zakres stabilizacj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37880" y="3876840"/>
            <a:ext cx="23112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560" y="63198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70440" y="619272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224240" y="1425240"/>
            <a:ext cx="0" cy="4786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056280" y="4026960"/>
            <a:ext cx="0" cy="2189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711520" y="383652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11520" y="6211800"/>
            <a:ext cx="394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97120" y="3675240"/>
            <a:ext cx="411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05040" y="1397160"/>
            <a:ext cx="3332160" cy="1744560"/>
          </a:xfrm>
          <a:custGeom>
            <a:avLst/>
            <a:gdLst/>
            <a:ahLst/>
            <a:rect l="l" t="t" r="r" b="b"/>
            <a:pathLst>
              <a:path w="2099" h="1099">
                <a:moveTo>
                  <a:pt x="0" y="0"/>
                </a:moveTo>
                <a:lnTo>
                  <a:pt x="880" y="24"/>
                </a:lnTo>
                <a:lnTo>
                  <a:pt x="972" y="24"/>
                </a:lnTo>
                <a:lnTo>
                  <a:pt x="1039" y="40"/>
                </a:lnTo>
                <a:lnTo>
                  <a:pt x="1104" y="84"/>
                </a:lnTo>
                <a:lnTo>
                  <a:pt x="1180" y="156"/>
                </a:lnTo>
                <a:lnTo>
                  <a:pt x="2020" y="1024"/>
                </a:lnTo>
                <a:lnTo>
                  <a:pt x="2099" y="1099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20880" y="4849920"/>
            <a:ext cx="3303720" cy="1363680"/>
          </a:xfrm>
          <a:custGeom>
            <a:avLst/>
            <a:gdLst/>
            <a:ahLst/>
            <a:rect l="l" t="t" r="r" b="b"/>
            <a:pathLst>
              <a:path w="2081" h="859">
                <a:moveTo>
                  <a:pt x="0" y="834"/>
                </a:moveTo>
                <a:cubicBezTo>
                  <a:pt x="317" y="837"/>
                  <a:pt x="651" y="828"/>
                  <a:pt x="803" y="826"/>
                </a:cubicBezTo>
                <a:cubicBezTo>
                  <a:pt x="955" y="824"/>
                  <a:pt x="876" y="834"/>
                  <a:pt x="910" y="821"/>
                </a:cubicBezTo>
                <a:cubicBezTo>
                  <a:pt x="944" y="808"/>
                  <a:pt x="985" y="859"/>
                  <a:pt x="1006" y="748"/>
                </a:cubicBezTo>
                <a:lnTo>
                  <a:pt x="1037" y="156"/>
                </a:lnTo>
                <a:lnTo>
                  <a:pt x="1054" y="81"/>
                </a:lnTo>
                <a:lnTo>
                  <a:pt x="1099" y="39"/>
                </a:lnTo>
                <a:cubicBezTo>
                  <a:pt x="1270" y="26"/>
                  <a:pt x="1677" y="6"/>
                  <a:pt x="2081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911160" y="4179960"/>
            <a:ext cx="1411200" cy="733680"/>
            <a:chOff x="911160" y="4179960"/>
            <a:chExt cx="1411200" cy="733680"/>
          </a:xfrm>
        </p:grpSpPr>
        <p:sp>
          <p:nvSpPr>
            <p:cNvPr id="226" name=""/>
            <p:cNvSpPr/>
            <p:nvPr/>
          </p:nvSpPr>
          <p:spPr>
            <a:xfrm>
              <a:off x="1734840" y="4527360"/>
              <a:ext cx="587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21840" y="4730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80520" y="4344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85400" y="452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82080" y="455292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d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23040" y="4179960"/>
              <a:ext cx="326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d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11160" y="435600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58440" y="432432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58920" y="432432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714760" y="532296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 flipV="1">
            <a:off x="804960" y="1278000"/>
            <a:ext cx="0" cy="238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0800" y="36640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4960" y="1800360"/>
            <a:ext cx="4329000" cy="645840"/>
          </a:xfrm>
          <a:custGeom>
            <a:avLst/>
            <a:gdLst/>
            <a:ahLst/>
            <a:rect l="l" t="t" r="r" b="b"/>
            <a:pathLst>
              <a:path w="2244" h="319">
                <a:moveTo>
                  <a:pt x="0" y="140"/>
                </a:moveTo>
                <a:lnTo>
                  <a:pt x="366" y="140"/>
                </a:lnTo>
                <a:lnTo>
                  <a:pt x="366" y="0"/>
                </a:lnTo>
                <a:lnTo>
                  <a:pt x="826" y="0"/>
                </a:lnTo>
                <a:lnTo>
                  <a:pt x="826" y="319"/>
                </a:lnTo>
                <a:lnTo>
                  <a:pt x="1379" y="319"/>
                </a:lnTo>
                <a:lnTo>
                  <a:pt x="1379" y="117"/>
                </a:lnTo>
                <a:lnTo>
                  <a:pt x="2244" y="117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0800" y="2643120"/>
            <a:ext cx="4119480" cy="843120"/>
          </a:xfrm>
          <a:custGeom>
            <a:avLst/>
            <a:gdLst/>
            <a:ahLst/>
            <a:rect l="l" t="t" r="r" b="b"/>
            <a:pathLst>
              <a:path w="2595" h="531">
                <a:moveTo>
                  <a:pt x="0" y="235"/>
                </a:moveTo>
                <a:lnTo>
                  <a:pt x="435" y="235"/>
                </a:lnTo>
                <a:lnTo>
                  <a:pt x="443" y="153"/>
                </a:lnTo>
                <a:lnTo>
                  <a:pt x="449" y="21"/>
                </a:lnTo>
                <a:lnTo>
                  <a:pt x="464" y="0"/>
                </a:lnTo>
                <a:lnTo>
                  <a:pt x="476" y="81"/>
                </a:lnTo>
                <a:lnTo>
                  <a:pt x="500" y="150"/>
                </a:lnTo>
                <a:lnTo>
                  <a:pt x="536" y="219"/>
                </a:lnTo>
                <a:lnTo>
                  <a:pt x="1004" y="235"/>
                </a:lnTo>
                <a:lnTo>
                  <a:pt x="1010" y="531"/>
                </a:lnTo>
                <a:lnTo>
                  <a:pt x="1025" y="369"/>
                </a:lnTo>
                <a:lnTo>
                  <a:pt x="1042" y="295"/>
                </a:lnTo>
                <a:lnTo>
                  <a:pt x="1070" y="237"/>
                </a:lnTo>
                <a:lnTo>
                  <a:pt x="1686" y="235"/>
                </a:lnTo>
                <a:lnTo>
                  <a:pt x="1694" y="120"/>
                </a:lnTo>
                <a:lnTo>
                  <a:pt x="1715" y="189"/>
                </a:lnTo>
                <a:lnTo>
                  <a:pt x="1754" y="228"/>
                </a:lnTo>
                <a:lnTo>
                  <a:pt x="2595" y="245"/>
                </a:ln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08280" y="3408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77160" y="13431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66080" y="25509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08560" y="353880"/>
            <a:ext cx="45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wiedź impulsowa stabiliza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489640" y="1479600"/>
            <a:ext cx="2886120" cy="1201680"/>
            <a:chOff x="5489640" y="1479600"/>
            <a:chExt cx="2886120" cy="1201680"/>
          </a:xfrm>
        </p:grpSpPr>
        <p:sp>
          <p:nvSpPr>
            <p:cNvPr id="245" name=""/>
            <p:cNvSpPr/>
            <p:nvPr/>
          </p:nvSpPr>
          <p:spPr>
            <a:xfrm>
              <a:off x="5562720" y="1494000"/>
              <a:ext cx="29988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44800" y="15350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09960" y="1635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27920" y="1962360"/>
              <a:ext cx="128520" cy="387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91640" y="1825560"/>
              <a:ext cx="468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91640" y="2359080"/>
              <a:ext cx="144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97840" y="1967040"/>
              <a:ext cx="277920" cy="357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33480" y="20433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254080" y="211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96080" y="1670040"/>
              <a:ext cx="1463400" cy="10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96240" y="2001960"/>
              <a:ext cx="1172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abiliz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5543640" y="1781280"/>
              <a:ext cx="199800" cy="104760"/>
              <a:chOff x="5543640" y="1781280"/>
              <a:chExt cx="199800" cy="104760"/>
            </a:xfrm>
          </p:grpSpPr>
          <p:sp>
            <p:nvSpPr>
              <p:cNvPr id="257" name=""/>
              <p:cNvSpPr/>
              <p:nvPr/>
            </p:nvSpPr>
            <p:spPr>
              <a:xfrm>
                <a:off x="5543640" y="1825560"/>
                <a:ext cx="19980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645160" y="1781280"/>
                <a:ext cx="97920" cy="104760"/>
              </a:xfrm>
              <a:custGeom>
                <a:avLst/>
                <a:gdLst/>
                <a:ahLst/>
                <a:rect l="l" t="t" r="r" b="b"/>
                <a:pathLst>
                  <a:path w="62" h="66">
                    <a:moveTo>
                      <a:pt x="0" y="66"/>
                    </a:moveTo>
                    <a:lnTo>
                      <a:pt x="62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5715000" y="1825560"/>
              <a:ext cx="1936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7364520" y="1781280"/>
              <a:ext cx="193680" cy="104760"/>
              <a:chOff x="7364520" y="1781280"/>
              <a:chExt cx="193680" cy="104760"/>
            </a:xfrm>
          </p:grpSpPr>
          <p:sp>
            <p:nvSpPr>
              <p:cNvPr id="261" name=""/>
              <p:cNvSpPr/>
              <p:nvPr/>
            </p:nvSpPr>
            <p:spPr>
              <a:xfrm>
                <a:off x="7364520" y="1832040"/>
                <a:ext cx="193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461360" y="178128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0" y="66"/>
                    </a:moveTo>
                    <a:lnTo>
                      <a:pt x="61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7558200" y="1825560"/>
              <a:ext cx="1983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364520" y="2530440"/>
              <a:ext cx="3920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7710480" y="1897200"/>
              <a:ext cx="96840" cy="566640"/>
              <a:chOff x="7710480" y="1897200"/>
              <a:chExt cx="96840" cy="566640"/>
            </a:xfrm>
          </p:grpSpPr>
          <p:sp>
            <p:nvSpPr>
              <p:cNvPr id="266" name=""/>
              <p:cNvSpPr/>
              <p:nvPr/>
            </p:nvSpPr>
            <p:spPr>
              <a:xfrm flipV="1">
                <a:off x="7756560" y="1897200"/>
                <a:ext cx="1440" cy="56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710480" y="1897200"/>
                <a:ext cx="96840" cy="10440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29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5553000" y="2530440"/>
              <a:ext cx="343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5489640" y="1897200"/>
              <a:ext cx="96840" cy="566640"/>
              <a:chOff x="5489640" y="1897200"/>
              <a:chExt cx="96840" cy="566640"/>
            </a:xfrm>
          </p:grpSpPr>
          <p:sp>
            <p:nvSpPr>
              <p:cNvPr id="270" name=""/>
              <p:cNvSpPr/>
              <p:nvPr/>
            </p:nvSpPr>
            <p:spPr>
              <a:xfrm flipV="1">
                <a:off x="5531040" y="1897200"/>
                <a:ext cx="4680" cy="56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89640" y="1897200"/>
                <a:ext cx="96840" cy="10440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29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5497560" y="2500560"/>
              <a:ext cx="60120" cy="6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97960" y="1825560"/>
              <a:ext cx="1936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97960" y="2530440"/>
              <a:ext cx="1936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91520" y="1479600"/>
              <a:ext cx="29988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73600" y="15145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38760" y="1614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62720" y="2048040"/>
              <a:ext cx="29988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680" y="21178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43080" y="2194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15280" y="2032200"/>
              <a:ext cx="29988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60280" y="20671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98880" y="2168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728120" y="2500560"/>
              <a:ext cx="60120" cy="6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28120" y="1795680"/>
              <a:ext cx="6012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97560" y="1795680"/>
              <a:ext cx="6012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V="1">
            <a:off x="808200" y="3792600"/>
            <a:ext cx="0" cy="238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4040" y="6178680"/>
            <a:ext cx="722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08200" y="4314960"/>
            <a:ext cx="6217920" cy="1858680"/>
          </a:xfrm>
          <a:custGeom>
            <a:avLst/>
            <a:gdLst/>
            <a:ahLst/>
            <a:rect l="l" t="t" r="r" b="b"/>
            <a:pathLst>
              <a:path w="3917" h="1171">
                <a:moveTo>
                  <a:pt x="0" y="179"/>
                </a:moveTo>
                <a:lnTo>
                  <a:pt x="445" y="179"/>
                </a:lnTo>
                <a:lnTo>
                  <a:pt x="445" y="0"/>
                </a:lnTo>
                <a:lnTo>
                  <a:pt x="1004" y="0"/>
                </a:lnTo>
                <a:lnTo>
                  <a:pt x="1004" y="407"/>
                </a:lnTo>
                <a:lnTo>
                  <a:pt x="1676" y="407"/>
                </a:lnTo>
                <a:lnTo>
                  <a:pt x="1676" y="149"/>
                </a:lnTo>
                <a:lnTo>
                  <a:pt x="2678" y="126"/>
                </a:lnTo>
                <a:lnTo>
                  <a:pt x="2694" y="1171"/>
                </a:lnTo>
                <a:lnTo>
                  <a:pt x="3356" y="1171"/>
                </a:lnTo>
                <a:lnTo>
                  <a:pt x="3917" y="212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238720"/>
            <a:ext cx="6957720" cy="800280"/>
          </a:xfrm>
          <a:custGeom>
            <a:avLst/>
            <a:gdLst/>
            <a:ahLst/>
            <a:rect l="l" t="t" r="r" b="b"/>
            <a:pathLst>
              <a:path w="4383" h="504">
                <a:moveTo>
                  <a:pt x="0" y="243"/>
                </a:moveTo>
                <a:lnTo>
                  <a:pt x="435" y="243"/>
                </a:lnTo>
                <a:lnTo>
                  <a:pt x="441" y="453"/>
                </a:lnTo>
                <a:lnTo>
                  <a:pt x="453" y="417"/>
                </a:lnTo>
                <a:lnTo>
                  <a:pt x="480" y="285"/>
                </a:lnTo>
                <a:lnTo>
                  <a:pt x="546" y="237"/>
                </a:lnTo>
                <a:lnTo>
                  <a:pt x="1004" y="243"/>
                </a:lnTo>
                <a:lnTo>
                  <a:pt x="1008" y="90"/>
                </a:lnTo>
                <a:lnTo>
                  <a:pt x="1029" y="105"/>
                </a:lnTo>
                <a:lnTo>
                  <a:pt x="1047" y="207"/>
                </a:lnTo>
                <a:lnTo>
                  <a:pt x="1110" y="234"/>
                </a:lnTo>
                <a:lnTo>
                  <a:pt x="1686" y="243"/>
                </a:lnTo>
                <a:lnTo>
                  <a:pt x="1686" y="504"/>
                </a:lnTo>
                <a:lnTo>
                  <a:pt x="1707" y="426"/>
                </a:lnTo>
                <a:lnTo>
                  <a:pt x="1737" y="297"/>
                </a:lnTo>
                <a:lnTo>
                  <a:pt x="1761" y="264"/>
                </a:lnTo>
                <a:lnTo>
                  <a:pt x="1806" y="252"/>
                </a:lnTo>
                <a:lnTo>
                  <a:pt x="2676" y="252"/>
                </a:lnTo>
                <a:lnTo>
                  <a:pt x="2688" y="0"/>
                </a:lnTo>
                <a:lnTo>
                  <a:pt x="2706" y="72"/>
                </a:lnTo>
                <a:lnTo>
                  <a:pt x="2730" y="222"/>
                </a:lnTo>
                <a:lnTo>
                  <a:pt x="2778" y="240"/>
                </a:lnTo>
                <a:lnTo>
                  <a:pt x="3357" y="240"/>
                </a:lnTo>
                <a:lnTo>
                  <a:pt x="3366" y="270"/>
                </a:lnTo>
                <a:lnTo>
                  <a:pt x="3384" y="243"/>
                </a:lnTo>
                <a:lnTo>
                  <a:pt x="3411" y="237"/>
                </a:lnTo>
                <a:lnTo>
                  <a:pt x="4383" y="238"/>
                </a:ln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095680" y="5884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79400" y="384480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58160" y="5154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240" y="272736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7720" y="184140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1480" y="537840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3760" y="4351320"/>
            <a:ext cx="45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DZAJE STABILIZ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1960" y="1108080"/>
            <a:ext cx="5588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arametrycz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korzystują wprost właściwości element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liniowych - dioda Zenera, wary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mpensacyj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eregowe - małe i średnie moce (do n•10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o stałym napięci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regulowane napięcie wyjś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ównoległe  - większe moce (setki 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stałym napięciu wyjści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40480" y="1434960"/>
            <a:ext cx="584280" cy="1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7200360" y="1930320"/>
            <a:ext cx="584280" cy="190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289640" y="182880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24760" y="153684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80440" y="1549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493040" y="231156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058080" y="247644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5994360" y="153684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006960" y="16506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10280" y="3441600"/>
            <a:ext cx="584280" cy="190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7670520" y="393696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99200" y="3263760"/>
            <a:ext cx="444600" cy="52092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94560" y="35434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950240" y="35560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962840" y="431784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6527520" y="4483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463800" y="354348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477120" y="3657600"/>
            <a:ext cx="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8394840" y="364464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90600" y="292104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7886160" y="190512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166240" y="152388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178840" y="22860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8610480" y="1612800"/>
            <a:ext cx="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261120" y="507996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5400000">
            <a:off x="6921000" y="5575320"/>
            <a:ext cx="584280" cy="190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010280" y="547380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45400" y="518148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201080" y="5194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13680" y="59562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5778000" y="612144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715000" y="518148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626080" y="53082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5400000">
            <a:off x="7606800" y="5549760"/>
            <a:ext cx="58392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86880" y="51688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899480" y="593100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8331120" y="525744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77640" y="61977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302600" y="363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43880" y="385920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r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756480" y="570240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15000" y="55357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r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134400" y="187812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el. nielinio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144640" y="1093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144640" y="3125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144640" y="480204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896800" y="10810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60160" y="37609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01440" y="4738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2730600"/>
            <a:ext cx="77724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477440" y="3038400"/>
            <a:ext cx="52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ATOR   PARAMETRYCZ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0960" y="52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DIODY ZE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259000" y="111744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1160" y="1828800"/>
            <a:ext cx="293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66880" y="1828800"/>
            <a:ext cx="1392120" cy="2625840"/>
          </a:xfrm>
          <a:custGeom>
            <a:avLst/>
            <a:gdLst/>
            <a:ahLst/>
            <a:rect l="l" t="t" r="r" b="b"/>
            <a:pathLst>
              <a:path w="608" h="1240">
                <a:moveTo>
                  <a:pt x="608" y="0"/>
                </a:moveTo>
                <a:lnTo>
                  <a:pt x="268" y="12"/>
                </a:lnTo>
                <a:lnTo>
                  <a:pt x="140" y="16"/>
                </a:lnTo>
                <a:lnTo>
                  <a:pt x="112" y="28"/>
                </a:lnTo>
                <a:lnTo>
                  <a:pt x="100" y="52"/>
                </a:lnTo>
                <a:lnTo>
                  <a:pt x="68" y="236"/>
                </a:lnTo>
                <a:lnTo>
                  <a:pt x="28" y="664"/>
                </a:lnTo>
                <a:lnTo>
                  <a:pt x="0" y="124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68360" y="1143000"/>
            <a:ext cx="466920" cy="685800"/>
          </a:xfrm>
          <a:custGeom>
            <a:avLst/>
            <a:gdLst/>
            <a:ahLst/>
            <a:rect l="l" t="t" r="r" b="b"/>
            <a:pathLst>
              <a:path w="204" h="324">
                <a:moveTo>
                  <a:pt x="0" y="324"/>
                </a:moveTo>
                <a:lnTo>
                  <a:pt x="136" y="320"/>
                </a:lnTo>
                <a:lnTo>
                  <a:pt x="160" y="304"/>
                </a:lnTo>
                <a:lnTo>
                  <a:pt x="168" y="280"/>
                </a:lnTo>
                <a:lnTo>
                  <a:pt x="188" y="188"/>
                </a:lnTo>
                <a:lnTo>
                  <a:pt x="204" y="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9840" y="1279440"/>
            <a:ext cx="66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27400" y="2530440"/>
            <a:ext cx="860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76320" y="1828800"/>
            <a:ext cx="0" cy="939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68400" y="276876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91160" y="2703600"/>
            <a:ext cx="51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D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34080" y="3448080"/>
            <a:ext cx="30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4884840" y="1165320"/>
            <a:ext cx="0" cy="36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994880" y="30830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30720" y="1411200"/>
            <a:ext cx="2735280" cy="2000160"/>
          </a:xfrm>
          <a:custGeom>
            <a:avLst/>
            <a:gdLst/>
            <a:ahLst/>
            <a:rect l="l" t="t" r="r" b="b"/>
            <a:pathLst>
              <a:path w="1723" h="1260">
                <a:moveTo>
                  <a:pt x="0" y="600"/>
                </a:moveTo>
                <a:cubicBezTo>
                  <a:pt x="86" y="692"/>
                  <a:pt x="173" y="785"/>
                  <a:pt x="312" y="878"/>
                </a:cubicBezTo>
                <a:cubicBezTo>
                  <a:pt x="451" y="971"/>
                  <a:pt x="690" y="1125"/>
                  <a:pt x="834" y="1156"/>
                </a:cubicBezTo>
                <a:cubicBezTo>
                  <a:pt x="978" y="1187"/>
                  <a:pt x="1030" y="1260"/>
                  <a:pt x="1178" y="1067"/>
                </a:cubicBezTo>
                <a:cubicBezTo>
                  <a:pt x="1326" y="874"/>
                  <a:pt x="1524" y="437"/>
                  <a:pt x="1723" y="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854680" y="1817640"/>
            <a:ext cx="1393920" cy="2944800"/>
          </a:xfrm>
          <a:custGeom>
            <a:avLst/>
            <a:gdLst/>
            <a:ahLst/>
            <a:rect l="l" t="t" r="r" b="b"/>
            <a:pathLst>
              <a:path w="878" h="1855">
                <a:moveTo>
                  <a:pt x="878" y="0"/>
                </a:moveTo>
                <a:cubicBezTo>
                  <a:pt x="812" y="293"/>
                  <a:pt x="746" y="587"/>
                  <a:pt x="678" y="789"/>
                </a:cubicBezTo>
                <a:cubicBezTo>
                  <a:pt x="610" y="991"/>
                  <a:pt x="580" y="1033"/>
                  <a:pt x="467" y="1211"/>
                </a:cubicBezTo>
                <a:cubicBezTo>
                  <a:pt x="354" y="1389"/>
                  <a:pt x="76" y="1748"/>
                  <a:pt x="0" y="1855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38800" y="843120"/>
            <a:ext cx="183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pl-PL" sz="2400" spc="-1" strike="noStrike" baseline="-25000">
                <a:solidFill>
                  <a:srgbClr val="cc0000"/>
                </a:solidFill>
                <a:latin typeface="Times New Roman"/>
              </a:rPr>
              <a:t>DZ</a:t>
            </a: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1" lang="pl-PL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16560" y="4794120"/>
            <a:ext cx="2859120" cy="20365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on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PD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nom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Z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162080" y="4178160"/>
            <a:ext cx="1528560" cy="2169720"/>
            <a:chOff x="1162080" y="4178160"/>
            <a:chExt cx="1528560" cy="2169720"/>
          </a:xfrm>
        </p:grpSpPr>
        <p:sp>
          <p:nvSpPr>
            <p:cNvPr id="369" name=""/>
            <p:cNvSpPr/>
            <p:nvPr/>
          </p:nvSpPr>
          <p:spPr>
            <a:xfrm>
              <a:off x="1408320" y="4443120"/>
              <a:ext cx="195120" cy="59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62080" y="5358960"/>
              <a:ext cx="723960" cy="75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1514520" y="5519160"/>
              <a:ext cx="0" cy="40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97240" y="417816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514520" y="5043240"/>
              <a:ext cx="0" cy="33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14520" y="611784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20880" y="4633560"/>
              <a:ext cx="869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DZ </a:t>
              </a: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(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05840" y="549072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Z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V="1">
            <a:off x="831960" y="1821960"/>
            <a:ext cx="218880" cy="2489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55800" y="1514520"/>
            <a:ext cx="463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cc0000"/>
                </a:solidFill>
                <a:latin typeface="Times New Roman"/>
              </a:rPr>
              <a:t>Z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613920" y="37879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- 7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18440" y="2149560"/>
            <a:ext cx="28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&lt;10omów dla I </a:t>
            </a:r>
            <a:r>
              <a:rPr b="0" lang="pl-PL" sz="2400" spc="-1" strike="noStrike">
                <a:solidFill>
                  <a:srgbClr val="cc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10360" y="2681280"/>
            <a:ext cx="547560" cy="5367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50040" y="334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24880" y="156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63440" y="773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7600" y="6311880"/>
            <a:ext cx="472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Linearyzowany, wielkosygnałowy model diody Z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47680" y="5311800"/>
            <a:ext cx="2107080" cy="579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V8=6,8V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08:15:07Z</dcterms:created>
  <dc:creator>Agnieszka Kukawczynska</dc:creator>
  <dc:description/>
  <dc:language>en-US</dc:language>
  <cp:lastModifiedBy>MK</cp:lastModifiedBy>
  <dcterms:modified xsi:type="dcterms:W3CDTF">2006-03-03T09:51:31Z</dcterms:modified>
  <cp:revision>118</cp:revision>
  <dc:subject/>
  <dc:title>STABILIZATORY NAPIĘĆ</dc:title>
</cp:coreProperties>
</file>